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0B4-F38F-4D1F-9D3B-611F9915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69D-AF3A-4858-B2A6-2FFF0DDC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30D-B174-4C14-8FF3-92A533AC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3E4-9DC7-4B95-A8FF-5D739C92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67D-1705-45A4-B562-7F4726DD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EBF-A816-46D6-A7D9-11F4D814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97E-1949-4450-847C-2F1D99A4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42F-8A1E-45EC-A1B8-B43A7B8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454-AD86-4D5A-954C-0E4DE2A7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E83-ED48-48D4-89E4-72288D6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8DF-3C73-412E-86F7-D4996F6A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383-2B66-46D6-845A-FBD2B98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0F5-948D-40C8-BCA0-B798CB90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80988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          C           M        M+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9160" y="416412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916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9160" y="49370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5760" y="528804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7280" y="4221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132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91320" y="49068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66840" y="525780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20" y="373068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92680" y="365436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080" y="60660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00880" y="2117880"/>
            <a:ext cx="168120" cy="9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1160" y="2117880"/>
            <a:ext cx="168480" cy="9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1800" y="2117880"/>
            <a:ext cx="168480" cy="9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9000" y="2081160"/>
            <a:ext cx="155520" cy="95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9000" y="2081160"/>
            <a:ext cx="155520" cy="95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2266920"/>
            <a:ext cx="156960" cy="75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266920"/>
            <a:ext cx="1569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0280" y="2154240"/>
            <a:ext cx="156960" cy="88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0280" y="2154240"/>
            <a:ext cx="15696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24520" y="2117880"/>
            <a:ext cx="168480" cy="9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24520" y="2149560"/>
            <a:ext cx="168480" cy="87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16600" y="1957320"/>
            <a:ext cx="168480" cy="10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16600" y="2090880"/>
            <a:ext cx="168480" cy="9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07240" y="2206800"/>
            <a:ext cx="16848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07240" y="2206800"/>
            <a:ext cx="168480" cy="82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3000" y="2201760"/>
            <a:ext cx="156960" cy="82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85080" y="2268360"/>
            <a:ext cx="155520" cy="75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75720" y="2232000"/>
            <a:ext cx="156960" cy="804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684760" y="2070000"/>
            <a:ext cx="1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43720" y="2057400"/>
            <a:ext cx="82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573960" y="2042640"/>
            <a:ext cx="144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32560" y="2043000"/>
            <a:ext cx="8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466040" y="2044440"/>
            <a:ext cx="14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9680" y="2044800"/>
            <a:ext cx="8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842080" y="2031480"/>
            <a:ext cx="144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05360" y="2031840"/>
            <a:ext cx="8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30920" y="2187720"/>
            <a:ext cx="1800" cy="7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89880" y="2181240"/>
            <a:ext cx="8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28040" y="2090880"/>
            <a:ext cx="14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86640" y="2077920"/>
            <a:ext cx="82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10200" y="209988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73840" y="2093760"/>
            <a:ext cx="8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899400" y="198432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978200"/>
            <a:ext cx="8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790040" y="2120400"/>
            <a:ext cx="14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54760" y="2114640"/>
            <a:ext cx="8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165720" y="2139480"/>
            <a:ext cx="18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4680" y="2133720"/>
            <a:ext cx="82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056360" y="2187720"/>
            <a:ext cx="1800" cy="7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2181240"/>
            <a:ext cx="85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947000" y="2145960"/>
            <a:ext cx="14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04160" y="2143080"/>
            <a:ext cx="84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79920" y="157320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43560" y="3035160"/>
            <a:ext cx="36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43560" y="2674800"/>
            <a:ext cx="36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2303640"/>
            <a:ext cx="36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43560" y="1944720"/>
            <a:ext cx="36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50040" y="1573200"/>
            <a:ext cx="36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9920" y="3035160"/>
            <a:ext cx="267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10000" y="2948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36920" y="2589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36920" y="2217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63480" y="1857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63480" y="1487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53880" y="31464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46320" y="31464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36600" y="31464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4960" y="64296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2146320"/>
            <a:ext cx="168120" cy="93168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87680" y="2146320"/>
            <a:ext cx="157320" cy="93168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9040" y="2330280"/>
            <a:ext cx="157320" cy="747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59040" y="2336760"/>
            <a:ext cx="157320" cy="731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45000" y="2365200"/>
            <a:ext cx="168120" cy="703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5000" y="2368440"/>
            <a:ext cx="168120" cy="70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120760"/>
            <a:ext cx="168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216160"/>
            <a:ext cx="168120" cy="858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13120" y="1998720"/>
            <a:ext cx="1573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13120" y="2201760"/>
            <a:ext cx="157320" cy="868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4480" y="2422440"/>
            <a:ext cx="157320" cy="649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70440" y="2332080"/>
            <a:ext cx="156960" cy="739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95320" y="2071800"/>
            <a:ext cx="1800" cy="55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5720" y="2063880"/>
            <a:ext cx="79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70120" y="199548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9080" y="198900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7240" y="2103120"/>
            <a:ext cx="1440" cy="3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25840" y="209700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52640" y="232056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7720" y="230976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836800" y="2276280"/>
            <a:ext cx="1800" cy="4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7200" y="226368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24200" y="2311200"/>
            <a:ext cx="1800" cy="4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83160" y="229860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20760" y="2139480"/>
            <a:ext cx="1800" cy="17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139840"/>
            <a:ext cx="795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00240" y="2116080"/>
            <a:ext cx="1800" cy="92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60640" y="2103480"/>
            <a:ext cx="79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92680" y="2082960"/>
            <a:ext cx="144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07000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78080" y="2371680"/>
            <a:ext cx="1440" cy="36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38480" y="2359080"/>
            <a:ext cx="77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62240" y="2319120"/>
            <a:ext cx="1800" cy="9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2640" y="2306520"/>
            <a:ext cx="79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48200" y="2239560"/>
            <a:ext cx="144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08600" y="2227320"/>
            <a:ext cx="79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81120" y="1581120"/>
            <a:ext cx="144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36840" y="3078000"/>
            <a:ext cx="44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36840" y="2709720"/>
            <a:ext cx="44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6840" y="2330280"/>
            <a:ext cx="44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36840" y="1962000"/>
            <a:ext cx="44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36840" y="1581120"/>
            <a:ext cx="44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81120" y="3078000"/>
            <a:ext cx="2670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0320" y="2979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2560" y="261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2560" y="223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2640" y="1863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2640" y="1482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8520" y="32130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24120" y="32130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10080" y="321300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56400" y="2077200"/>
            <a:ext cx="13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 GluRs/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 cont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781200"/>
            <a:ext cx="8388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9360" y="762120"/>
            <a:ext cx="2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963720"/>
            <a:ext cx="83880" cy="8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963720"/>
            <a:ext cx="83880" cy="83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9720" y="942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157400"/>
            <a:ext cx="83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1157400"/>
            <a:ext cx="83880" cy="8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080" y="11365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338120"/>
            <a:ext cx="83880" cy="86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11160" y="1319040"/>
            <a:ext cx="27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+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62720" y="762120"/>
            <a:ext cx="405000" cy="709560"/>
            <a:chOff x="5562720" y="762120"/>
            <a:chExt cx="405000" cy="709560"/>
          </a:xfrm>
        </p:grpSpPr>
        <p:sp>
          <p:nvSpPr>
            <p:cNvPr id="174" name=""/>
            <p:cNvSpPr/>
            <p:nvPr/>
          </p:nvSpPr>
          <p:spPr>
            <a:xfrm>
              <a:off x="5562720" y="781200"/>
              <a:ext cx="8424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5560" y="7621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963720"/>
              <a:ext cx="8424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963720"/>
              <a:ext cx="84240" cy="83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95920" y="942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1157400"/>
              <a:ext cx="842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1157400"/>
              <a:ext cx="8424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6280" y="11365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720" y="1338120"/>
              <a:ext cx="84240" cy="860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97360" y="131904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rot="16200000">
            <a:off x="4318920" y="2077200"/>
            <a:ext cx="13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 GluRs/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 cont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1512720" y="4059360"/>
            <a:ext cx="2678400" cy="1655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5475240" y="4038480"/>
            <a:ext cx="2678040" cy="16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702400" y="380988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          C          M        M+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1440" y="2135160"/>
            <a:ext cx="168120" cy="93204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79560" y="2406600"/>
            <a:ext cx="157320" cy="666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36880" y="2313000"/>
            <a:ext cx="168120" cy="758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5000" y="2417760"/>
            <a:ext cx="157320" cy="6494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81360" y="2406600"/>
            <a:ext cx="156960" cy="666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9:03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69008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