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B589B-0BDE-4BA8-871A-855120EC6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1BC78-A361-4C56-9B95-CC7D70B35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A6D17-9A23-4941-B265-752368052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F09BD-AA15-4CEA-B8F8-AE680A5D8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86AE6-C2B3-4B6F-BEB9-585E214F9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D4D98-16E0-4DC8-BB1D-CF9DE6B47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732F7-A2C0-4BB7-A1C1-996DC5A7D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A08DD-D656-4A11-8957-B4F56EB1A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B0F8F-3A32-4452-A9D5-D767B061D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64472-EEED-4720-B819-C69B184E9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8F1FF-788F-4AE2-96C4-7FFD62DA3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86062-64C8-4E7E-A53C-65ECBD321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2C832-251B-452E-A403-C49D9FBBCC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3.png"/><Relationship Id="rId16" Type="http://schemas.openxmlformats.org/officeDocument/2006/relationships/image" Target="../media/image4.png"/><Relationship Id="rId17" Type="http://schemas.openxmlformats.org/officeDocument/2006/relationships/image" Target="../media/image3.png"/><Relationship Id="rId18" Type="http://schemas.openxmlformats.org/officeDocument/2006/relationships/image" Target="../media/image4.png"/><Relationship Id="rId1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804960" y="606600"/>
            <a:ext cx="7369200" cy="5184720"/>
            <a:chOff x="804960" y="606600"/>
            <a:chExt cx="7369200" cy="5184720"/>
          </a:xfrm>
        </p:grpSpPr>
        <p:pic>
          <p:nvPicPr>
            <p:cNvPr id="42" name="" descr=""/>
            <p:cNvPicPr/>
            <p:nvPr/>
          </p:nvPicPr>
          <p:blipFill>
            <a:blip r:embed="rId1"/>
            <a:stretch/>
          </p:blipFill>
          <p:spPr>
            <a:xfrm>
              <a:off x="1386000" y="4137120"/>
              <a:ext cx="2778120" cy="1654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1434960" y="3733920"/>
              <a:ext cx="27561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WT+Veh     WT+C      5-LOX(-/-)   5-LOX(-/-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                                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+Veh             +C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929160" y="4164120"/>
              <a:ext cx="613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luR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929160" y="4549680"/>
              <a:ext cx="613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luR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929160" y="4937040"/>
              <a:ext cx="613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luR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905760" y="5361120"/>
              <a:ext cx="64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β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-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t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8" name="" descr=""/>
            <p:cNvPicPr/>
            <p:nvPr/>
          </p:nvPicPr>
          <p:blipFill>
            <a:blip r:embed="rId2"/>
            <a:stretch/>
          </p:blipFill>
          <p:spPr>
            <a:xfrm>
              <a:off x="5440320" y="4148280"/>
              <a:ext cx="2733840" cy="15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4891320" y="4157640"/>
              <a:ext cx="613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luR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891320" y="4535640"/>
              <a:ext cx="613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luR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91320" y="4968720"/>
              <a:ext cx="613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luR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866840" y="5335560"/>
              <a:ext cx="64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β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-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t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30520" y="3730680"/>
              <a:ext cx="340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792680" y="3654360"/>
              <a:ext cx="340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726080" y="606600"/>
              <a:ext cx="340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B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600880" y="2117880"/>
              <a:ext cx="168120" cy="9172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491160" y="2117880"/>
              <a:ext cx="168480" cy="9172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7381800" y="2117880"/>
              <a:ext cx="168480" cy="9172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769000" y="2081160"/>
              <a:ext cx="155520" cy="9540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769000" y="2081160"/>
              <a:ext cx="155520" cy="954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659640" y="1981080"/>
              <a:ext cx="156960" cy="105408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659640" y="1981080"/>
              <a:ext cx="156960" cy="1054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550280" y="2243160"/>
              <a:ext cx="156960" cy="79200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550280" y="2243160"/>
              <a:ext cx="156960" cy="792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24520" y="2117880"/>
              <a:ext cx="168480" cy="917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924520" y="2117880"/>
              <a:ext cx="168480" cy="917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16600" y="1957320"/>
              <a:ext cx="168480" cy="1077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816600" y="1957320"/>
              <a:ext cx="168480" cy="1077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707240" y="2117880"/>
              <a:ext cx="168480" cy="917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7707240" y="2117880"/>
              <a:ext cx="168480" cy="917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093000" y="2081160"/>
              <a:ext cx="156960" cy="95400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985080" y="1969920"/>
              <a:ext cx="155520" cy="106524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7875720" y="2205000"/>
              <a:ext cx="156960" cy="83016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 flipV="1">
              <a:off x="5684760" y="2044440"/>
              <a:ext cx="1800" cy="73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649840" y="2044800"/>
              <a:ext cx="82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 flipV="1">
              <a:off x="6573960" y="2068200"/>
              <a:ext cx="1440" cy="49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539040" y="2068560"/>
              <a:ext cx="83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 flipV="1">
              <a:off x="7466040" y="2044440"/>
              <a:ext cx="1440" cy="73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7429680" y="2044800"/>
              <a:ext cx="83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 flipV="1">
              <a:off x="5842080" y="2031480"/>
              <a:ext cx="1440" cy="49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805360" y="2031840"/>
              <a:ext cx="842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flipV="1">
              <a:off x="6730920" y="1907640"/>
              <a:ext cx="1800" cy="73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696000" y="1908000"/>
              <a:ext cx="842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flipV="1">
              <a:off x="7621560" y="2217240"/>
              <a:ext cx="1440" cy="25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586640" y="2217600"/>
              <a:ext cx="82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 flipV="1">
              <a:off x="6010200" y="2093400"/>
              <a:ext cx="1800" cy="2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73840" y="2093760"/>
              <a:ext cx="842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V="1">
              <a:off x="6899400" y="1857240"/>
              <a:ext cx="1440" cy="100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864480" y="1857240"/>
              <a:ext cx="838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 flipV="1">
              <a:off x="7790040" y="2044440"/>
              <a:ext cx="1440" cy="73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754760" y="2044800"/>
              <a:ext cx="82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 flipV="1">
              <a:off x="6165720" y="2031480"/>
              <a:ext cx="1800" cy="49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130800" y="2031840"/>
              <a:ext cx="828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 flipV="1">
              <a:off x="7056360" y="1920960"/>
              <a:ext cx="1800" cy="48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020000" y="1920960"/>
              <a:ext cx="85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V="1">
              <a:off x="7947000" y="2155320"/>
              <a:ext cx="1440" cy="49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910640" y="2155680"/>
              <a:ext cx="838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479920" y="1573200"/>
              <a:ext cx="0" cy="1461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443560" y="3035160"/>
              <a:ext cx="363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443560" y="2674800"/>
              <a:ext cx="363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43560" y="2303640"/>
              <a:ext cx="36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43560" y="1944720"/>
              <a:ext cx="36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50040" y="1573200"/>
              <a:ext cx="36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79920" y="3035160"/>
              <a:ext cx="26719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310000" y="29480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236920" y="25891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236920" y="221760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163480" y="185724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2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163480" y="148752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6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753880" y="3146400"/>
              <a:ext cx="433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luR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46320" y="3146400"/>
              <a:ext cx="433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luR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536600" y="3146400"/>
              <a:ext cx="433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luR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4960" y="642960"/>
              <a:ext cx="340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704960" y="2146320"/>
              <a:ext cx="157320" cy="931680"/>
            </a:xfrm>
            <a:prstGeom prst="rect">
              <a:avLst/>
            </a:prstGeom>
            <a:solidFill>
              <a:srgbClr val="00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590920" y="2146320"/>
              <a:ext cx="168120" cy="931680"/>
            </a:xfrm>
            <a:prstGeom prst="rect">
              <a:avLst/>
            </a:prstGeom>
            <a:solidFill>
              <a:srgbClr val="00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487680" y="2146320"/>
              <a:ext cx="157320" cy="931680"/>
            </a:xfrm>
            <a:prstGeom prst="rect">
              <a:avLst/>
            </a:prstGeom>
            <a:solidFill>
              <a:srgbClr val="00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862280" y="2206800"/>
              <a:ext cx="168120" cy="87120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862280" y="2206800"/>
              <a:ext cx="168120" cy="8712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759040" y="2330280"/>
              <a:ext cx="157320" cy="747720"/>
            </a:xfrm>
            <a:prstGeom prst="rect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759040" y="2330280"/>
              <a:ext cx="157320" cy="74772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645000" y="2206800"/>
              <a:ext cx="168120" cy="871200"/>
            </a:xfrm>
            <a:prstGeom prst="rect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645000" y="2206800"/>
              <a:ext cx="168120" cy="8712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030400" y="2022480"/>
              <a:ext cx="157320" cy="1055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030400" y="2022480"/>
              <a:ext cx="157320" cy="105552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916360" y="2120760"/>
              <a:ext cx="168120" cy="95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916360" y="2120760"/>
              <a:ext cx="168120" cy="95724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813120" y="1998720"/>
              <a:ext cx="157320" cy="1079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813120" y="1998720"/>
              <a:ext cx="157320" cy="107928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187720" y="2120760"/>
              <a:ext cx="156960" cy="957240"/>
            </a:xfrm>
            <a:prstGeom prst="rect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084480" y="2206800"/>
              <a:ext cx="157320" cy="871200"/>
            </a:xfrm>
            <a:prstGeom prst="rect">
              <a:avLst/>
            </a:prstGeom>
            <a:blipFill rotWithShape="0">
              <a:blip r:embed="rId13"/>
              <a:srcRect/>
              <a:tile tx="0" ty="0" sx="100000" sy="100000" algn="ctr"/>
            </a:blip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970440" y="2097000"/>
              <a:ext cx="156960" cy="981000"/>
            </a:xfrm>
            <a:prstGeom prst="rect">
              <a:avLst/>
            </a:prstGeom>
            <a:blipFill rotWithShape="0">
              <a:blip r:embed="rId14"/>
              <a:srcRect/>
              <a:tile tx="0" ty="0" sx="100000" sy="100000" algn="ctr"/>
            </a:blip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 flipV="1">
              <a:off x="1782720" y="2109600"/>
              <a:ext cx="1800" cy="363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749600" y="2109960"/>
              <a:ext cx="792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 flipV="1">
              <a:off x="2670120" y="2071440"/>
              <a:ext cx="1800" cy="745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635200" y="2071800"/>
              <a:ext cx="7956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 flipV="1">
              <a:off x="3567240" y="2109600"/>
              <a:ext cx="1440" cy="363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532320" y="2109960"/>
              <a:ext cx="792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940040" y="2120400"/>
              <a:ext cx="1440" cy="86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906560" y="2120760"/>
              <a:ext cx="7956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V="1">
              <a:off x="2836800" y="2244600"/>
              <a:ext cx="1800" cy="856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803680" y="2244600"/>
              <a:ext cx="7920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 flipV="1">
              <a:off x="3724200" y="2146320"/>
              <a:ext cx="1800" cy="604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689280" y="2146320"/>
              <a:ext cx="7956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 flipV="1">
              <a:off x="2108160" y="1949040"/>
              <a:ext cx="1800" cy="73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075040" y="1949400"/>
              <a:ext cx="7920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 flipV="1">
              <a:off x="2994120" y="2084040"/>
              <a:ext cx="1440" cy="363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960640" y="2084400"/>
              <a:ext cx="7956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 flipV="1">
              <a:off x="3892680" y="1949040"/>
              <a:ext cx="1440" cy="493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857760" y="1949400"/>
              <a:ext cx="7920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flipV="1">
              <a:off x="2265480" y="2060280"/>
              <a:ext cx="1440" cy="601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232000" y="2060640"/>
              <a:ext cx="7776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 flipV="1">
              <a:off x="3162240" y="2096640"/>
              <a:ext cx="1800" cy="109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129120" y="2097000"/>
              <a:ext cx="7920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 flipV="1">
              <a:off x="4048200" y="1998360"/>
              <a:ext cx="1440" cy="982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014720" y="1998720"/>
              <a:ext cx="7956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581120" y="1581120"/>
              <a:ext cx="1440" cy="14968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536840" y="3078000"/>
              <a:ext cx="4428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536840" y="2709720"/>
              <a:ext cx="4428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536840" y="2330280"/>
              <a:ext cx="4428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536840" y="1962000"/>
              <a:ext cx="4428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536840" y="1581120"/>
              <a:ext cx="4428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581120" y="3078000"/>
              <a:ext cx="267012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390320" y="29797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312560" y="261144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312560" y="223200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232640" y="186372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2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232640" y="148284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6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838520" y="3213000"/>
              <a:ext cx="433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luR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724120" y="3213000"/>
              <a:ext cx="433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luR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10080" y="3213000"/>
              <a:ext cx="433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luR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16200000">
              <a:off x="356400" y="2077200"/>
              <a:ext cx="132840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atio GluRs/</a:t>
              </a:r>
              <a:r>
                <a:rPr b="0" lang="el-GR" sz="1200" spc="-1" strike="noStrike">
                  <a:solidFill>
                    <a:srgbClr val="000000"/>
                  </a:solidFill>
                  <a:latin typeface="Arial"/>
                </a:rPr>
                <a:t>β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-act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%  WT+Veh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676520" y="781200"/>
              <a:ext cx="83880" cy="856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810800" y="762120"/>
              <a:ext cx="494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WT+Veh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676520" y="963720"/>
              <a:ext cx="83880" cy="83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676520" y="963720"/>
              <a:ext cx="83880" cy="83880"/>
            </a:xfrm>
            <a:prstGeom prst="rect">
              <a:avLst/>
            </a:prstGeom>
            <a:blipFill rotWithShape="0">
              <a:blip r:embed="rId15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811160" y="942840"/>
              <a:ext cx="361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WT+C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676520" y="1157400"/>
              <a:ext cx="83880" cy="8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676520" y="1157400"/>
              <a:ext cx="83880" cy="83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810080" y="1136520"/>
              <a:ext cx="869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-LOX(-/-)+Veh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676520" y="1338120"/>
              <a:ext cx="83880" cy="86040"/>
            </a:xfrm>
            <a:prstGeom prst="rect">
              <a:avLst/>
            </a:prstGeom>
            <a:blipFill rotWithShape="0">
              <a:blip r:embed="rId16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810440" y="1319040"/>
              <a:ext cx="736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-LOX(-/-)+C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2" name=""/>
            <p:cNvGrpSpPr/>
            <p:nvPr/>
          </p:nvGrpSpPr>
          <p:grpSpPr>
            <a:xfrm>
              <a:off x="5562720" y="762120"/>
              <a:ext cx="1002960" cy="709560"/>
              <a:chOff x="5562720" y="762120"/>
              <a:chExt cx="1002960" cy="709560"/>
            </a:xfrm>
          </p:grpSpPr>
          <p:sp>
            <p:nvSpPr>
              <p:cNvPr id="183" name=""/>
              <p:cNvSpPr/>
              <p:nvPr/>
            </p:nvSpPr>
            <p:spPr>
              <a:xfrm>
                <a:off x="5562720" y="781200"/>
                <a:ext cx="84240" cy="8568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5697000" y="762120"/>
                <a:ext cx="494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WT+Veh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5562720" y="963720"/>
                <a:ext cx="84240" cy="83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5562720" y="963720"/>
                <a:ext cx="84240" cy="83880"/>
              </a:xfrm>
              <a:prstGeom prst="rect">
                <a:avLst/>
              </a:prstGeom>
              <a:blipFill rotWithShape="0">
                <a:blip r:embed="rId17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5697720" y="942840"/>
                <a:ext cx="361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WT+C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5562720" y="1157400"/>
                <a:ext cx="84240" cy="83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5562720" y="1157400"/>
                <a:ext cx="84240" cy="838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5696280" y="1136520"/>
                <a:ext cx="8694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5-LOX(-/-)+Veh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5562720" y="1338120"/>
                <a:ext cx="84240" cy="86040"/>
              </a:xfrm>
              <a:prstGeom prst="rect">
                <a:avLst/>
              </a:prstGeom>
              <a:blipFill rotWithShape="0">
                <a:blip r:embed="rId18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5696640" y="1319040"/>
                <a:ext cx="736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5-LOX(-/-)+C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3" name=""/>
            <p:cNvSpPr/>
            <p:nvPr/>
          </p:nvSpPr>
          <p:spPr>
            <a:xfrm rot="16200000">
              <a:off x="4318920" y="2077200"/>
              <a:ext cx="132840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atio GluRs/</a:t>
              </a:r>
              <a:r>
                <a:rPr b="0" lang="el-GR" sz="1200" spc="-1" strike="noStrike">
                  <a:solidFill>
                    <a:srgbClr val="000000"/>
                  </a:solidFill>
                  <a:latin typeface="Arial"/>
                </a:rPr>
                <a:t>β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-act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% WT+Veh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397480" y="3733920"/>
              <a:ext cx="27558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WT+Veh     WT+C      5-LOX(-/-)   5-LOX(-/-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                                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+Veh             +C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7238880" y="6172200"/>
            <a:ext cx="17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g.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1T17:36:58Z</dcterms:created>
  <dc:creator>chen</dc:creator>
  <dc:description/>
  <dc:language>en-US</dc:language>
  <cp:lastModifiedBy>hmanev</cp:lastModifiedBy>
  <dcterms:modified xsi:type="dcterms:W3CDTF">2010-09-01T15:23:55Z</dcterms:modified>
  <cp:revision>22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602627083</vt:r8>
  </property>
  <property fmtid="{D5CDD505-2E9C-101B-9397-08002B2CF9AE}" pid="3" name="_AuthorEmail">
    <vt:lpwstr>Hmanev@psych.uic.edu</vt:lpwstr>
  </property>
  <property fmtid="{D5CDD505-2E9C-101B-9397-08002B2CF9AE}" pid="4" name="_AuthorEmailDisplayName">
    <vt:lpwstr>Manev, Hari</vt:lpwstr>
  </property>
  <property fmtid="{D5CDD505-2E9C-101B-9397-08002B2CF9AE}" pid="5" name="_EmailSubject">
    <vt:lpwstr>Request for final draft post-referring of your article for UIC's Institutional Repository</vt:lpwstr>
  </property>
</Properties>
</file>