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27A0-D626-4741-91F0-2D582C15D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0DC1-CD3C-4FCB-A3E2-1A868CD6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0257-845D-4F15-845E-37D488B21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8C27-C49E-45FB-885C-FDE8FF2F1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CE31-72A7-404E-9EA9-985422F9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F194-DD02-42D8-AB75-15055A12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ECA8-7863-4D14-88E8-0BB11AE9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D8E0-7767-4D5C-8E65-AA9BA063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C850-0DCB-4373-BE14-4BA489CD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5D23-184E-4998-A012-611DCC6D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7B58-A733-4ECB-940D-FA171792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0ECF-7BEF-48AC-AADA-C9BF295C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83DF-DA61-46E3-BB87-9C22D044A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3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62920" y="586728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871560" y="682560"/>
            <a:ext cx="7434360" cy="4651560"/>
            <a:chOff x="871560" y="682560"/>
            <a:chExt cx="7434360" cy="4651560"/>
          </a:xfrm>
        </p:grpSpPr>
        <p:sp>
          <p:nvSpPr>
            <p:cNvPr id="43" name=""/>
            <p:cNvSpPr/>
            <p:nvPr/>
          </p:nvSpPr>
          <p:spPr>
            <a:xfrm>
              <a:off x="926280" y="424800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83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26280" y="458640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8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27360" y="4987800"/>
              <a:ext cx="61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luR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574280" y="3889440"/>
              <a:ext cx="25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h          C             M          M+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1569960" y="4224240"/>
              <a:ext cx="28497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871560" y="682560"/>
              <a:ext cx="340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36240" y="420696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83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12480" y="456732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8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67560" y="4908600"/>
              <a:ext cx="61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luR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87480" y="3886200"/>
              <a:ext cx="259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h           C             M           M+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5504040" y="4178160"/>
              <a:ext cx="280188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4757760" y="682560"/>
              <a:ext cx="340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16200" y="3745080"/>
              <a:ext cx="340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34080" y="3730680"/>
              <a:ext cx="340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870520" y="2620800"/>
              <a:ext cx="225360" cy="474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132680" y="2620800"/>
              <a:ext cx="225360" cy="474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95880" y="2455920"/>
              <a:ext cx="238320" cy="639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95880" y="2455920"/>
              <a:ext cx="238320" cy="63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358040" y="2511360"/>
              <a:ext cx="238320" cy="5842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358040" y="2511360"/>
              <a:ext cx="238320" cy="584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334200" y="2676600"/>
              <a:ext cx="226800" cy="41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334200" y="2676600"/>
              <a:ext cx="226800" cy="41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596360" y="2698920"/>
              <a:ext cx="226800" cy="39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596360" y="2698920"/>
              <a:ext cx="226800" cy="396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561000" y="2554200"/>
              <a:ext cx="225720" cy="5414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823160" y="2687760"/>
              <a:ext cx="225360" cy="4078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5977080" y="2598480"/>
              <a:ext cx="1440" cy="2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2160" y="2598840"/>
              <a:ext cx="82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7238880" y="2598480"/>
              <a:ext cx="1800" cy="2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203960" y="2598840"/>
              <a:ext cx="84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6215040" y="2390400"/>
              <a:ext cx="1440" cy="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180120" y="2390760"/>
              <a:ext cx="8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7477200" y="2478240"/>
              <a:ext cx="144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442280" y="2478240"/>
              <a:ext cx="83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442200" y="2642760"/>
              <a:ext cx="144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405480" y="2643120"/>
              <a:ext cx="82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7704000" y="2665080"/>
              <a:ext cx="180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669080" y="2665440"/>
              <a:ext cx="82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6667560" y="2477880"/>
              <a:ext cx="144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630840" y="2478240"/>
              <a:ext cx="86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7929720" y="2631600"/>
              <a:ext cx="1440" cy="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94800" y="2631960"/>
              <a:ext cx="82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03840" y="1663560"/>
              <a:ext cx="1800" cy="143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54520" y="3095640"/>
              <a:ext cx="49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654520" y="2852640"/>
              <a:ext cx="49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654520" y="2620800"/>
              <a:ext cx="49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654520" y="237960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654520" y="213840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54520" y="1906560"/>
              <a:ext cx="49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654520" y="1663560"/>
              <a:ext cx="49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03840" y="3095640"/>
              <a:ext cx="2524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00440" y="3005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16200" y="27637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333400" y="25336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33400" y="22924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333400" y="20494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3400" y="18176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33400" y="15764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83640" y="3218040"/>
              <a:ext cx="49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83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344000" y="3218040"/>
              <a:ext cx="49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8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092680" y="149868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90720" y="2633760"/>
              <a:ext cx="228600" cy="476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168720" y="2633760"/>
              <a:ext cx="230040" cy="476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119320" y="2050920"/>
              <a:ext cx="241200" cy="10591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19320" y="2050920"/>
              <a:ext cx="241200" cy="1059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398760" y="2341440"/>
              <a:ext cx="228600" cy="7686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398760" y="2341440"/>
              <a:ext cx="228600" cy="76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360520" y="2435400"/>
              <a:ext cx="230400" cy="67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360520" y="2435400"/>
              <a:ext cx="230400" cy="674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27360" y="2620800"/>
              <a:ext cx="230400" cy="48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627360" y="2620800"/>
              <a:ext cx="230400" cy="489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590920" y="2236680"/>
              <a:ext cx="228600" cy="87336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857760" y="2752560"/>
              <a:ext cx="228600" cy="35748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1998720" y="2581200"/>
              <a:ext cx="1440" cy="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62000" y="2581200"/>
              <a:ext cx="86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3278160" y="2581200"/>
              <a:ext cx="1440" cy="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41800" y="2581200"/>
              <a:ext cx="83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239920" y="1865160"/>
              <a:ext cx="1800" cy="18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03560" y="1865160"/>
              <a:ext cx="85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3506760" y="2262240"/>
              <a:ext cx="144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70400" y="2262240"/>
              <a:ext cx="85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2470320" y="2395080"/>
              <a:ext cx="1440" cy="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3600" y="2395440"/>
              <a:ext cx="84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3736800" y="2593440"/>
              <a:ext cx="1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700440" y="2593800"/>
              <a:ext cx="84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2698920" y="2169720"/>
              <a:ext cx="144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62200" y="2170080"/>
              <a:ext cx="84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3965400" y="2739600"/>
              <a:ext cx="180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29040" y="2739960"/>
              <a:ext cx="84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22600" y="1679400"/>
              <a:ext cx="1440" cy="143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73280" y="3110040"/>
              <a:ext cx="49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73280" y="2871720"/>
              <a:ext cx="49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73280" y="2633760"/>
              <a:ext cx="49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73280" y="2395440"/>
              <a:ext cx="49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73280" y="2157480"/>
              <a:ext cx="49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73280" y="1917720"/>
              <a:ext cx="49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73280" y="1679400"/>
              <a:ext cx="49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22600" y="3110040"/>
              <a:ext cx="2544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15600" y="3005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31720" y="27655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47120" y="25272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47120" y="22892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47120" y="20509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47120" y="18129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47120" y="15732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05280" y="3255840"/>
              <a:ext cx="49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83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372120" y="3255840"/>
              <a:ext cx="49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8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87960" y="196704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3840" y="2486160"/>
              <a:ext cx="35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52480" y="781200"/>
              <a:ext cx="84240" cy="85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85680" y="733320"/>
              <a:ext cx="22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e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963720"/>
              <a:ext cx="84240" cy="8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752480" y="963720"/>
              <a:ext cx="84240" cy="8388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886040" y="9144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752480" y="1157400"/>
              <a:ext cx="8424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52480" y="1157400"/>
              <a:ext cx="84240" cy="83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86040" y="110808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52480" y="1338120"/>
              <a:ext cx="84240" cy="8604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87120" y="1290600"/>
              <a:ext cx="27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+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89520" y="781200"/>
              <a:ext cx="84240" cy="85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922720" y="733320"/>
              <a:ext cx="22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e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89520" y="963720"/>
              <a:ext cx="84240" cy="8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89520" y="963720"/>
              <a:ext cx="84240" cy="8388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23080" y="9144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89520" y="1157400"/>
              <a:ext cx="8424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89520" y="1157400"/>
              <a:ext cx="84240" cy="83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923080" y="110808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89520" y="1338120"/>
              <a:ext cx="84240" cy="8604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924160" y="1290600"/>
              <a:ext cx="27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+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6200000">
              <a:off x="221760" y="2235600"/>
              <a:ext cx="1523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atio Phospho/GluR1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6200000">
              <a:off x="815400" y="2289240"/>
              <a:ext cx="781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% contro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16200000">
              <a:off x="4184280" y="2235600"/>
              <a:ext cx="1523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atio Phospho/GluR1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6200000">
              <a:off x="4777560" y="2289240"/>
              <a:ext cx="781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% contro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7:36:58Z</dcterms:created>
  <dc:creator>chen</dc:creator>
  <dc:description/>
  <dc:language>en-US</dc:language>
  <cp:lastModifiedBy>hmanev</cp:lastModifiedBy>
  <dcterms:modified xsi:type="dcterms:W3CDTF">2010-09-01T15:10:45Z</dcterms:modified>
  <cp:revision>1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76751083</vt:r8>
  </property>
  <property fmtid="{D5CDD505-2E9C-101B-9397-08002B2CF9AE}" pid="3" name="_AuthorEmail">
    <vt:lpwstr>Hmanev@psych.uic.edu</vt:lpwstr>
  </property>
  <property fmtid="{D5CDD505-2E9C-101B-9397-08002B2CF9AE}" pid="4" name="_AuthorEmailDisplayName">
    <vt:lpwstr>Manev, Hari</vt:lpwstr>
  </property>
  <property fmtid="{D5CDD505-2E9C-101B-9397-08002B2CF9AE}" pid="5" name="_EmailSubject">
    <vt:lpwstr>Request for final draft post-referring of your article for UIC's Institutional Repository</vt:lpwstr>
  </property>
</Properties>
</file>