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589-1F83-4A12-9209-AB1CD977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97C-A381-42F2-A4CF-6853D268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000-00EC-44BE-8244-42D3C603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A56-52E5-4512-9191-16C2BF2C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A100-4B99-4B2A-BC0D-8ABF3C37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D2D-078D-4135-87E3-F091B27D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AC6-8879-4062-A040-554153DD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3346-9317-4D02-AC72-0967598E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B4F-FB1D-49B5-8AD1-81A148A6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CAD-091E-4676-A41B-7353588E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D73-38A1-410F-97C6-50C18265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A59F-2EA8-4B25-8C68-5127A95E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CC56-A83E-4D54-A62B-6DB2E72EC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7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98560" y="1066680"/>
            <a:ext cx="5364360" cy="3088080"/>
            <a:chOff x="1798560" y="1066680"/>
            <a:chExt cx="5364360" cy="3088080"/>
          </a:xfrm>
        </p:grpSpPr>
        <p:sp>
          <p:nvSpPr>
            <p:cNvPr id="43" name=""/>
            <p:cNvSpPr/>
            <p:nvPr/>
          </p:nvSpPr>
          <p:spPr>
            <a:xfrm>
              <a:off x="5492880" y="26812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10600" y="223524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381480" y="275760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48520" y="28954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92880" y="19144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505920" y="12286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26200" y="2143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81480" y="237636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60840" y="3417840"/>
              <a:ext cx="586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60840" y="3008160"/>
              <a:ext cx="586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60840" y="2598840"/>
              <a:ext cx="58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60840" y="2189160"/>
              <a:ext cx="58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60840" y="1779480"/>
              <a:ext cx="586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60840" y="1371600"/>
              <a:ext cx="58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505320" y="3809520"/>
              <a:ext cx="1440" cy="5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572000" y="3809520"/>
              <a:ext cx="1440" cy="5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5638680" y="3809520"/>
              <a:ext cx="1800" cy="5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17920" y="3301920"/>
              <a:ext cx="3137040" cy="233280"/>
            </a:xfrm>
            <a:custGeom>
              <a:avLst/>
              <a:gdLst/>
              <a:ahLst/>
              <a:rect l="l" t="t" r="r" b="b"/>
              <a:pathLst>
                <a:path w="215" h="16">
                  <a:moveTo>
                    <a:pt x="0" y="0"/>
                  </a:moveTo>
                  <a:lnTo>
                    <a:pt x="72" y="8"/>
                  </a:lnTo>
                  <a:lnTo>
                    <a:pt x="143" y="16"/>
                  </a:lnTo>
                  <a:lnTo>
                    <a:pt x="215" y="13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517920" y="3242880"/>
              <a:ext cx="1440" cy="5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75080" y="3243240"/>
              <a:ext cx="101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568760" y="3344400"/>
              <a:ext cx="1800" cy="7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24480" y="3344760"/>
              <a:ext cx="102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603760" y="3476160"/>
              <a:ext cx="1800" cy="5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60920" y="3476520"/>
              <a:ext cx="1015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6654960" y="3403080"/>
              <a:ext cx="1440" cy="87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1760" y="3403440"/>
              <a:ext cx="1018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7920" y="3257640"/>
              <a:ext cx="3137040" cy="233280"/>
            </a:xfrm>
            <a:custGeom>
              <a:avLst/>
              <a:gdLst/>
              <a:ahLst/>
              <a:rect l="l" t="t" r="r" b="b"/>
              <a:pathLst>
                <a:path w="215" h="16">
                  <a:moveTo>
                    <a:pt x="0" y="0"/>
                  </a:moveTo>
                  <a:lnTo>
                    <a:pt x="72" y="15"/>
                  </a:lnTo>
                  <a:lnTo>
                    <a:pt x="143" y="6"/>
                  </a:lnTo>
                  <a:lnTo>
                    <a:pt x="215" y="1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3517920" y="3184200"/>
              <a:ext cx="1440" cy="7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75080" y="3184560"/>
              <a:ext cx="101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568760" y="3403080"/>
              <a:ext cx="1800" cy="7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24480" y="3403440"/>
              <a:ext cx="102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603760" y="3271320"/>
              <a:ext cx="1800" cy="7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60920" y="3271680"/>
              <a:ext cx="1015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654960" y="3431880"/>
              <a:ext cx="1440" cy="5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11760" y="3432240"/>
              <a:ext cx="101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17920" y="2174760"/>
              <a:ext cx="3137040" cy="673200"/>
            </a:xfrm>
            <a:custGeom>
              <a:avLst/>
              <a:gdLst/>
              <a:ahLst/>
              <a:rect l="l" t="t" r="r" b="b"/>
              <a:pathLst>
                <a:path w="215" h="46">
                  <a:moveTo>
                    <a:pt x="0" y="39"/>
                  </a:moveTo>
                  <a:lnTo>
                    <a:pt x="72" y="46"/>
                  </a:lnTo>
                  <a:lnTo>
                    <a:pt x="143" y="33"/>
                  </a:lnTo>
                  <a:lnTo>
                    <a:pt x="21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517920" y="2643120"/>
              <a:ext cx="1440" cy="10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75080" y="2643120"/>
              <a:ext cx="1015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568760" y="2760840"/>
              <a:ext cx="1800" cy="8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4480" y="2760840"/>
              <a:ext cx="102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5603760" y="2511360"/>
              <a:ext cx="1800" cy="146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60920" y="2511360"/>
              <a:ext cx="1015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6654960" y="1983960"/>
              <a:ext cx="1440" cy="190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11760" y="1984320"/>
              <a:ext cx="1018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17920" y="1722600"/>
              <a:ext cx="3137040" cy="993600"/>
            </a:xfrm>
            <a:custGeom>
              <a:avLst/>
              <a:gdLst/>
              <a:ahLst/>
              <a:rect l="l" t="t" r="r" b="b"/>
              <a:pathLst>
                <a:path w="215" h="68">
                  <a:moveTo>
                    <a:pt x="0" y="68"/>
                  </a:moveTo>
                  <a:lnTo>
                    <a:pt x="72" y="63"/>
                  </a:lnTo>
                  <a:lnTo>
                    <a:pt x="143" y="39"/>
                  </a:lnTo>
                  <a:lnTo>
                    <a:pt x="21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517920" y="2614680"/>
              <a:ext cx="1440" cy="10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75080" y="2614680"/>
              <a:ext cx="101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568760" y="2409840"/>
              <a:ext cx="1800" cy="23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24480" y="2409840"/>
              <a:ext cx="102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603760" y="2174400"/>
              <a:ext cx="1800" cy="117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60920" y="2174760"/>
              <a:ext cx="1015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6654960" y="1517400"/>
              <a:ext cx="1440" cy="204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11760" y="1517760"/>
              <a:ext cx="101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44840" y="3228840"/>
              <a:ext cx="131760" cy="1303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5680" y="3344760"/>
              <a:ext cx="131760" cy="1317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32480" y="3462480"/>
              <a:ext cx="129960" cy="1317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81880" y="3417840"/>
              <a:ext cx="131760" cy="1317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44840" y="3184560"/>
              <a:ext cx="14616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46" y="0"/>
                  </a:moveTo>
                  <a:lnTo>
                    <a:pt x="92" y="46"/>
                  </a:lnTo>
                  <a:lnTo>
                    <a:pt x="46" y="92"/>
                  </a:lnTo>
                  <a:lnTo>
                    <a:pt x="0" y="4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3403440"/>
              <a:ext cx="14616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46" y="0"/>
                  </a:moveTo>
                  <a:lnTo>
                    <a:pt x="92" y="46"/>
                  </a:lnTo>
                  <a:lnTo>
                    <a:pt x="46" y="92"/>
                  </a:lnTo>
                  <a:lnTo>
                    <a:pt x="0" y="4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2480" y="3271680"/>
              <a:ext cx="144360" cy="14616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45" y="0"/>
                  </a:moveTo>
                  <a:lnTo>
                    <a:pt x="91" y="46"/>
                  </a:lnTo>
                  <a:lnTo>
                    <a:pt x="45" y="92"/>
                  </a:lnTo>
                  <a:lnTo>
                    <a:pt x="0" y="4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81880" y="3417840"/>
              <a:ext cx="14580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46" y="0"/>
                  </a:moveTo>
                  <a:lnTo>
                    <a:pt x="92" y="46"/>
                  </a:lnTo>
                  <a:lnTo>
                    <a:pt x="46" y="92"/>
                  </a:lnTo>
                  <a:lnTo>
                    <a:pt x="0" y="4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59240" y="2687760"/>
              <a:ext cx="117360" cy="115920"/>
            </a:xfrm>
            <a:custGeom>
              <a:avLst/>
              <a:gdLst/>
              <a:ahLst/>
              <a:rect l="l" t="t" r="r" b="b"/>
              <a:pathLst>
                <a:path w="74" h="73">
                  <a:moveTo>
                    <a:pt x="37" y="0"/>
                  </a:moveTo>
                  <a:lnTo>
                    <a:pt x="74" y="73"/>
                  </a:lnTo>
                  <a:lnTo>
                    <a:pt x="0" y="7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10080" y="2789280"/>
              <a:ext cx="117360" cy="11736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37" y="0"/>
                  </a:moveTo>
                  <a:lnTo>
                    <a:pt x="74" y="74"/>
                  </a:lnTo>
                  <a:lnTo>
                    <a:pt x="0" y="7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46880" y="2598840"/>
              <a:ext cx="115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36" y="0"/>
                  </a:moveTo>
                  <a:lnTo>
                    <a:pt x="73" y="74"/>
                  </a:lnTo>
                  <a:lnTo>
                    <a:pt x="0" y="7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5920" y="2116080"/>
              <a:ext cx="117720" cy="11736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37" y="0"/>
                  </a:moveTo>
                  <a:lnTo>
                    <a:pt x="74" y="74"/>
                  </a:lnTo>
                  <a:lnTo>
                    <a:pt x="0" y="7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44840" y="2643120"/>
              <a:ext cx="131760" cy="13176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95680" y="2570040"/>
              <a:ext cx="131760" cy="13176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32480" y="2219400"/>
              <a:ext cx="129960" cy="13176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81880" y="1649520"/>
              <a:ext cx="131760" cy="12996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70760" y="3711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64840" y="33019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64840" y="28926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64840" y="24829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64840" y="2073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64840" y="1663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4840" y="1254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97240" y="3971880"/>
              <a:ext cx="39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y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48440" y="3971880"/>
              <a:ext cx="39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y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84880" y="3971880"/>
              <a:ext cx="39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y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59840" y="3971880"/>
              <a:ext cx="39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y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1273680" y="2273400"/>
              <a:ext cx="123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comotor activ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1527480" y="2325240"/>
              <a:ext cx="1181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counts / 30 mi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99920" y="106668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e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00640" y="13730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00280" y="1681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048120" y="1143000"/>
              <a:ext cx="304560" cy="983880"/>
              <a:chOff x="3048120" y="1143000"/>
              <a:chExt cx="304560" cy="983880"/>
            </a:xfrm>
          </p:grpSpPr>
          <p:sp>
            <p:nvSpPr>
              <p:cNvPr id="129" name=""/>
              <p:cNvSpPr/>
              <p:nvPr/>
            </p:nvSpPr>
            <p:spPr>
              <a:xfrm>
                <a:off x="3048120" y="1199160"/>
                <a:ext cx="3045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157200" y="1143000"/>
                <a:ext cx="75600" cy="975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48120" y="1493640"/>
                <a:ext cx="3045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57200" y="1437480"/>
                <a:ext cx="86400" cy="11268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36" y="0"/>
                    </a:moveTo>
                    <a:lnTo>
                      <a:pt x="73" y="37"/>
                    </a:lnTo>
                    <a:lnTo>
                      <a:pt x="36" y="74"/>
                    </a:lnTo>
                    <a:lnTo>
                      <a:pt x="0" y="3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048120" y="1789920"/>
                <a:ext cx="304560" cy="10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157200" y="1733760"/>
                <a:ext cx="86400" cy="11124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36" y="0"/>
                    </a:moveTo>
                    <a:lnTo>
                      <a:pt x="73" y="73"/>
                    </a:lnTo>
                    <a:lnTo>
                      <a:pt x="0" y="7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048120" y="2084400"/>
                <a:ext cx="304560" cy="10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57200" y="2028240"/>
                <a:ext cx="75600" cy="98640"/>
              </a:xfrm>
              <a:prstGeom prst="ellipse">
                <a:avLst/>
              </a:prstGeom>
              <a:solidFill>
                <a:srgbClr val="0000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501720" y="1987560"/>
              <a:ext cx="27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+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43200" y="3809880"/>
              <a:ext cx="4419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819520" y="1066680"/>
              <a:ext cx="0" cy="274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703920" y="3809520"/>
              <a:ext cx="1800" cy="5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7:36:58Z</dcterms:created>
  <dc:creator>chen</dc:creator>
  <dc:description/>
  <dc:language>en-US</dc:language>
  <cp:lastModifiedBy>hmanev</cp:lastModifiedBy>
  <dcterms:modified xsi:type="dcterms:W3CDTF">2010-09-01T15:10:06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47740641</vt:r8>
  </property>
  <property fmtid="{D5CDD505-2E9C-101B-9397-08002B2CF9AE}" pid="3" name="_AuthorEmail">
    <vt:lpwstr>Hmanev@psych.uic.edu</vt:lpwstr>
  </property>
  <property fmtid="{D5CDD505-2E9C-101B-9397-08002B2CF9AE}" pid="4" name="_AuthorEmailDisplayName">
    <vt:lpwstr>Manev, Hari</vt:lpwstr>
  </property>
  <property fmtid="{D5CDD505-2E9C-101B-9397-08002B2CF9AE}" pid="5" name="_EmailSubject">
    <vt:lpwstr>Request for final draft post-referring of your article for UIC's Institutional Repository</vt:lpwstr>
  </property>
</Properties>
</file>