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E37-3A96-400D-AB89-A17D3422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095-A23D-4EE3-A55F-0C7856C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9C3-1BDF-45F6-B253-58F2AE8E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FFE-AB13-49C4-95C6-DB5C74C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047-7BF6-4634-B35A-EB89B26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A86-8E82-4499-ABD1-0249ED68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0F8-0225-42FC-B719-F199637C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644-E2BD-43A9-A756-1F26710D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F65-F85E-4996-803E-91B6613F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C49-53B9-4A18-8555-8949A666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81D-7240-4B75-8393-D130FDA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4EB-0E53-4F42-B89E-7F6C90D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05A-C73F-49ED-9B96-53F9E9F1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6080" y="6095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10640" y="533520"/>
            <a:ext cx="7544520" cy="4495680"/>
            <a:chOff x="710640" y="533520"/>
            <a:chExt cx="7544520" cy="4495680"/>
          </a:xfrm>
        </p:grpSpPr>
        <p:sp>
          <p:nvSpPr>
            <p:cNvPr id="43" name=""/>
            <p:cNvSpPr/>
            <p:nvPr/>
          </p:nvSpPr>
          <p:spPr>
            <a:xfrm>
              <a:off x="710640" y="39718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10640" y="43117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1720" y="46641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3400" y="3606840"/>
              <a:ext cx="24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h           C             M          M+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449360" y="3889440"/>
              <a:ext cx="26910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36920" y="53352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38760" y="53352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5567400" y="3886200"/>
            <a:ext cx="268776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67400" y="3886200"/>
                      <a:ext cx="26877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4817520" y="39704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17520" y="42973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77280" y="46782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1040" y="3589200"/>
              <a:ext cx="242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h          C             M          M+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5600" y="35164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10400" y="3502080"/>
              <a:ext cx="34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57920" y="1903320"/>
              <a:ext cx="212760" cy="790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47000" y="1903320"/>
              <a:ext cx="212760" cy="790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70680" y="1873080"/>
              <a:ext cx="223920" cy="820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0680" y="1873080"/>
              <a:ext cx="223920" cy="82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59760" y="2019240"/>
              <a:ext cx="223560" cy="674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59760" y="2019240"/>
              <a:ext cx="223560" cy="67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94600" y="1800360"/>
              <a:ext cx="214200" cy="89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4600" y="1800360"/>
              <a:ext cx="214200" cy="89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83320" y="1986120"/>
              <a:ext cx="2127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83320" y="1986120"/>
              <a:ext cx="212760" cy="70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08800" y="1778040"/>
              <a:ext cx="212760" cy="915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6080" y="1862280"/>
              <a:ext cx="214560" cy="831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959440" y="185076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24520" y="1851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147080" y="1829880"/>
              <a:ext cx="14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13600" y="183024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183360" y="1800360"/>
              <a:ext cx="144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49880" y="180036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370640" y="200772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37520" y="20080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396120" y="176796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61200" y="176832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583400" y="1945800"/>
              <a:ext cx="180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0280" y="194616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608880" y="1674360"/>
              <a:ext cx="144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5400" y="1674720"/>
              <a:ext cx="79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797960" y="1778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64480" y="177804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00600" y="1581120"/>
              <a:ext cx="1800" cy="11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67480" y="26938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67480" y="23734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67480" y="205884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67480" y="17384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00600" y="2693880"/>
              <a:ext cx="237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43280" y="2622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6680" y="230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76680" y="1987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9360" y="1665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79320" y="278928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 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69840" y="278928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 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9960" y="1914480"/>
              <a:ext cx="228600" cy="787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08240" y="1914480"/>
              <a:ext cx="228600" cy="787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8560" y="2048040"/>
              <a:ext cx="230040" cy="653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8560" y="2048040"/>
              <a:ext cx="230040" cy="65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36840" y="2036880"/>
              <a:ext cx="230400" cy="66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36840" y="2036880"/>
              <a:ext cx="230400" cy="66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8600" y="2000160"/>
              <a:ext cx="228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98600" y="2000160"/>
              <a:ext cx="228600" cy="70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7240" y="1890720"/>
              <a:ext cx="22860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7240" y="1890720"/>
              <a:ext cx="22860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7200" y="1940040"/>
              <a:ext cx="230400" cy="761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5840" y="1940040"/>
              <a:ext cx="230040" cy="761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947960" y="18302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11240" y="1830240"/>
              <a:ext cx="8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216240" y="186696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9880" y="1866960"/>
              <a:ext cx="8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178000" y="197460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41640" y="1974960"/>
              <a:ext cx="8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46640" y="1974960"/>
              <a:ext cx="14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09920" y="197496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406600" y="191448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0240" y="1914480"/>
              <a:ext cx="8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75240" y="184104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8520" y="1841400"/>
              <a:ext cx="8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37000" y="1866600"/>
              <a:ext cx="14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00280" y="186696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905280" y="1866600"/>
              <a:ext cx="14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8560" y="186696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0040" y="1600200"/>
              <a:ext cx="1440" cy="11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22520" y="27018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22520" y="23875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22520" y="20718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2520" y="17575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0040" y="2701800"/>
              <a:ext cx="253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4840" y="260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0600" y="2290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80600" y="197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4560" y="1660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4880" y="28353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 8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23160" y="28353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 8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657360"/>
              <a:ext cx="8388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9360" y="6094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839880"/>
              <a:ext cx="8388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839880"/>
              <a:ext cx="83880" cy="838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9720" y="790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1033560"/>
              <a:ext cx="838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1033560"/>
              <a:ext cx="8388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10080" y="9842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1214280"/>
              <a:ext cx="83880" cy="86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1160" y="116676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3560" y="657360"/>
              <a:ext cx="8388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46400" y="6094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3560" y="839880"/>
              <a:ext cx="8388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3560" y="839880"/>
              <a:ext cx="83880" cy="838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6760" y="790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3560" y="1033560"/>
              <a:ext cx="838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3560" y="1033560"/>
              <a:ext cx="8388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6760" y="9842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1214280"/>
              <a:ext cx="83880" cy="860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47840" y="116676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91800" y="2124360"/>
              <a:ext cx="152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598320" y="217728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of contro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260600" y="2124360"/>
              <a:ext cx="152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io Phospho/GluR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767120" y="217728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% of contro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5:10:24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9023779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