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625-544A-4221-B414-9A608CD3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76E-58CD-498A-BE0A-006C7973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6B7-F7C8-40FD-A927-BA1C213C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0C7-2E26-40DD-8C49-DF5A839B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D73-2FA8-4451-9DBF-8DB27F2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E21-1A62-4BF7-8D48-10130B4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362-5FC0-4E29-8E1D-EF186E23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77E-42EC-443C-8E19-3975EA5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30F-2D0C-49E5-8FA2-5C32692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A90-F63C-464F-8A63-060FB10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261-9B95-4AA2-907E-38EE18F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07D-8A35-4799-BED5-283A247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D52-4A82-41FB-A4E0-FB62D824D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72400" y="6172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80200" y="685800"/>
            <a:ext cx="7273080" cy="4648320"/>
            <a:chOff x="880200" y="685800"/>
            <a:chExt cx="7273080" cy="4648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674720" y="4267080"/>
              <a:ext cx="2668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80200" y="4248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200" y="46054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1280" y="49863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67120" y="17668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448240" y="4295880"/>
              <a:ext cx="270504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690440" y="4248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90440" y="46054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91520" y="49863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2720" y="68580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2720" y="377820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68920" y="376380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92960" y="68580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80160" y="2344680"/>
              <a:ext cx="228600" cy="774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23240" y="2344680"/>
              <a:ext cx="228600" cy="774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08760" y="2389320"/>
              <a:ext cx="228600" cy="730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08760" y="2389320"/>
              <a:ext cx="22860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51840" y="2214720"/>
              <a:ext cx="217440" cy="904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51840" y="2214720"/>
              <a:ext cx="217440" cy="90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37360" y="2443320"/>
              <a:ext cx="21888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37360" y="2443320"/>
              <a:ext cx="218880" cy="67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9280" y="2301840"/>
              <a:ext cx="228600" cy="81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9280" y="2301840"/>
              <a:ext cx="228600" cy="817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56240" y="2017800"/>
              <a:ext cx="228600" cy="1101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7880" y="1930320"/>
              <a:ext cx="218880" cy="11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889600" y="2290680"/>
              <a:ext cx="144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56120" y="22906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130880" y="2290680"/>
              <a:ext cx="180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99200" y="22906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118200" y="2290680"/>
              <a:ext cx="1440" cy="9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84720" y="22906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359480" y="2116080"/>
              <a:ext cx="1800" cy="9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27800" y="21160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346800" y="2389320"/>
              <a:ext cx="144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3320" y="238932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578720" y="2290320"/>
              <a:ext cx="1440" cy="11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240" y="22906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564240" y="1920600"/>
              <a:ext cx="1800" cy="96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32560" y="192096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7807320" y="1854000"/>
              <a:ext cx="1440" cy="7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3840" y="185436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16720" y="1571760"/>
              <a:ext cx="1440" cy="1547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72080" y="311940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72080" y="281448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72080" y="2498760"/>
              <a:ext cx="44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72080" y="2192400"/>
              <a:ext cx="44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72080" y="187632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2080" y="1571760"/>
              <a:ext cx="44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16720" y="3119400"/>
              <a:ext cx="247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30600" y="303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54280" y="272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54280" y="2411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77600" y="2104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77600" y="1789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7600" y="1484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5880" y="324000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7800" y="324000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65160" y="2355840"/>
              <a:ext cx="231840" cy="75240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14720" y="2344680"/>
              <a:ext cx="220680" cy="7635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7000" y="2135160"/>
              <a:ext cx="222480" cy="973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97000" y="2135160"/>
              <a:ext cx="222480" cy="9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35400" y="2112840"/>
              <a:ext cx="231840" cy="995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5400" y="2112840"/>
              <a:ext cx="231840" cy="9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9480" y="2500200"/>
              <a:ext cx="23148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19480" y="2500200"/>
              <a:ext cx="231480" cy="6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7240" y="2300400"/>
              <a:ext cx="222120" cy="80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67240" y="2300400"/>
              <a:ext cx="222120" cy="807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0960" y="2090880"/>
              <a:ext cx="220680" cy="1017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9360" y="1792440"/>
              <a:ext cx="220680" cy="1315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976400" y="2278080"/>
              <a:ext cx="180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43280" y="2278080"/>
              <a:ext cx="77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225960" y="2311560"/>
              <a:ext cx="1440" cy="33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92480" y="231156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8240" y="2079720"/>
              <a:ext cx="1440" cy="55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4760" y="2079720"/>
              <a:ext cx="77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46640" y="2035080"/>
              <a:ext cx="144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3160" y="2035080"/>
              <a:ext cx="77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28920" y="2467080"/>
              <a:ext cx="1440" cy="33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95440" y="2467080"/>
              <a:ext cx="77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78120" y="2266560"/>
              <a:ext cx="1800" cy="3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45000" y="2266920"/>
              <a:ext cx="77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660760" y="2068560"/>
              <a:ext cx="1440" cy="22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9080" y="2068560"/>
              <a:ext cx="75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898800" y="1725480"/>
              <a:ext cx="1800" cy="6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65680" y="1725480"/>
              <a:ext cx="77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0280" y="1592280"/>
              <a:ext cx="1440" cy="151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55640" y="310824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55640" y="280980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55640" y="250020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5640" y="2201760"/>
              <a:ext cx="44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55640" y="1890720"/>
              <a:ext cx="44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5640" y="1592280"/>
              <a:ext cx="44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0280" y="3108240"/>
              <a:ext cx="2485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12360" y="3021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34600" y="2720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34600" y="2411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6480" y="211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6480" y="1803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56480" y="1504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84760" y="32306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2520" y="32306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372600" y="2130840"/>
              <a:ext cx="1480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Phospho/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WT+Ve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4258800" y="2130840"/>
              <a:ext cx="1480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Phospho/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WT+Ve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16200" y="781200"/>
              <a:ext cx="8388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0480" y="76212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16200" y="963720"/>
              <a:ext cx="8388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16200" y="963720"/>
              <a:ext cx="83880" cy="83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0840" y="94284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6200" y="1157400"/>
              <a:ext cx="838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16200" y="1157400"/>
              <a:ext cx="8388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9760" y="1136520"/>
              <a:ext cx="86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-LOX(-/-)+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6200" y="1338120"/>
              <a:ext cx="83880" cy="86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50120" y="131904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-LOX(-/-)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2400" y="781200"/>
              <a:ext cx="8388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36680" y="76212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02400" y="963720"/>
              <a:ext cx="8388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02400" y="963720"/>
              <a:ext cx="83880" cy="83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7040" y="94284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2400" y="1157400"/>
              <a:ext cx="838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2400" y="1157400"/>
              <a:ext cx="8388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35960" y="1136520"/>
              <a:ext cx="86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-LOX(-/-)+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338120"/>
              <a:ext cx="83880" cy="860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6320" y="131904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-LOX(-/-)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794040"/>
              <a:ext cx="283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      WT+C       5-LOX(-/-)    5-LOX(-/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Veh              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21160" y="3794040"/>
              <a:ext cx="283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      WT+C       5-LOX(-/-)    5-LOX(-/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Veh              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6400" y="167652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7400" y="13716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34280" y="16002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53600" y="15238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7:36:58Z</dcterms:created>
  <dc:creator>chen</dc:creator>
  <dc:description/>
  <dc:language>en-US</dc:language>
  <cp:lastModifiedBy>hmanev</cp:lastModifiedBy>
  <dcterms:modified xsi:type="dcterms:W3CDTF">2010-09-01T15:24:04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8785158</vt:r8>
  </property>
  <property fmtid="{D5CDD505-2E9C-101B-9397-08002B2CF9AE}" pid="3" name="_AuthorEmail">
    <vt:lpwstr>Hmanev@psych.uic.edu</vt:lpwstr>
  </property>
  <property fmtid="{D5CDD505-2E9C-101B-9397-08002B2CF9AE}" pid="4" name="_AuthorEmailDisplayName">
    <vt:lpwstr>Manev, Hari</vt:lpwstr>
  </property>
  <property fmtid="{D5CDD505-2E9C-101B-9397-08002B2CF9AE}" pid="5" name="_EmailSubject">
    <vt:lpwstr>Request for final draft post-referring of your article for UIC's Institutional Repository</vt:lpwstr>
  </property>
</Properties>
</file>