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7BEB-3D1B-4B8F-914C-A9ACD1EA3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4A3D-C5D0-450D-9149-BAAD4CB89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idney Paired Donation whereby two potential transplant recipients exchange incompatible living donors, thereby resulting in two compatible recipient-donor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F6DC-4D77-4DD0-B3DA-9353FD4C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873-F01A-4736-8E68-0997775E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DC99-9998-4060-89AF-60FEDFBC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D80B-6BED-4DB9-AFDE-14F1A534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7C05-451C-41E1-8F0F-3255A464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BC7-AB96-443A-9DB2-FA1053D3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7A7-ED07-4774-BB80-17F96BF3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31A-460F-4AA6-B6DB-01E2E7E9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44C0-9CA5-4629-A5D5-78520731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B499-B96A-4D1F-8AF0-F2CE69FD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0DB0-BFC8-40E3-933F-D32D339A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D22-EF79-4B5E-8ABF-95B654D6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341D-646C-4F15-8D29-2CDD42216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6"/>
          <p:cNvGrpSpPr/>
          <p:nvPr/>
        </p:nvGrpSpPr>
        <p:grpSpPr>
          <a:xfrm>
            <a:off x="1062000" y="2438280"/>
            <a:ext cx="6864480" cy="3789360"/>
            <a:chOff x="1062000" y="2438280"/>
            <a:chExt cx="6864480" cy="3789360"/>
          </a:xfrm>
        </p:grpSpPr>
        <p:sp>
          <p:nvSpPr>
            <p:cNvPr id="49" name="Text Box 3"/>
            <p:cNvSpPr/>
            <p:nvPr/>
          </p:nvSpPr>
          <p:spPr>
            <a:xfrm>
              <a:off x="1062000" y="5770440"/>
              <a:ext cx="1778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5931000" y="5770440"/>
              <a:ext cx="177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590560" y="5334120"/>
              <a:ext cx="137160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cipi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5334120" y="5334120"/>
              <a:ext cx="1295280" cy="707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cipi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" name="AutoShape 7"/>
            <p:cNvCxnSpPr>
              <a:stCxn id="54" idx="4"/>
              <a:endCxn id="51" idx="0"/>
            </p:cNvCxnSpPr>
            <p:nvPr/>
          </p:nvCxnSpPr>
          <p:spPr>
            <a:xfrm>
              <a:off x="3276360" y="4114800"/>
              <a:ext cx="360" cy="1219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" name="AutoShape 8"/>
            <p:cNvCxnSpPr>
              <a:stCxn id="56" idx="4"/>
              <a:endCxn id="52" idx="0"/>
            </p:cNvCxnSpPr>
            <p:nvPr/>
          </p:nvCxnSpPr>
          <p:spPr>
            <a:xfrm>
              <a:off x="5943600" y="4114800"/>
              <a:ext cx="38520" cy="1219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4" name="Oval 9"/>
            <p:cNvSpPr/>
            <p:nvPr/>
          </p:nvSpPr>
          <p:spPr>
            <a:xfrm>
              <a:off x="2438280" y="2438280"/>
              <a:ext cx="1676160" cy="1676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onor for Recipient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0"/>
            <p:cNvSpPr/>
            <p:nvPr/>
          </p:nvSpPr>
          <p:spPr>
            <a:xfrm>
              <a:off x="5105520" y="2438280"/>
              <a:ext cx="167616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onor for Recipient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1"/>
            <p:cNvSpPr/>
            <p:nvPr/>
          </p:nvSpPr>
          <p:spPr>
            <a:xfrm>
              <a:off x="6384960" y="4343400"/>
              <a:ext cx="1541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ossmatch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si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2"/>
            <p:cNvSpPr/>
            <p:nvPr/>
          </p:nvSpPr>
          <p:spPr>
            <a:xfrm rot="2950200">
              <a:off x="3685680" y="4211280"/>
              <a:ext cx="1893960" cy="687240"/>
            </a:xfrm>
            <a:custGeom>
              <a:avLst/>
              <a:gdLst>
                <a:gd name="textAreaLeft" fmla="*/ 295920 w 1893960"/>
                <a:gd name="textAreaRight" fmla="*/ 1787040 w 1893960"/>
                <a:gd name="textAreaTop" fmla="*/ 254520 h 687240"/>
                <a:gd name="textAreaBottom" fmla="*/ 432720 h 68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899" y="0"/>
                  </a:moveTo>
                  <a:lnTo>
                    <a:pt x="16899" y="7996"/>
                  </a:lnTo>
                  <a:lnTo>
                    <a:pt x="3375" y="7996"/>
                  </a:lnTo>
                  <a:lnTo>
                    <a:pt x="3375" y="13604"/>
                  </a:lnTo>
                  <a:lnTo>
                    <a:pt x="16899" y="13604"/>
                  </a:lnTo>
                  <a:lnTo>
                    <a:pt x="16899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7996"/>
                  </a:moveTo>
                  <a:lnTo>
                    <a:pt x="1350" y="13604"/>
                  </a:lnTo>
                  <a:lnTo>
                    <a:pt x="2700" y="13604"/>
                  </a:lnTo>
                  <a:lnTo>
                    <a:pt x="2700" y="7996"/>
                  </a:lnTo>
                  <a:close/>
                </a:path>
                <a:path w="21600" h="21600">
                  <a:moveTo>
                    <a:pt x="0" y="7996"/>
                  </a:moveTo>
                  <a:lnTo>
                    <a:pt x="0" y="13604"/>
                  </a:lnTo>
                  <a:lnTo>
                    <a:pt x="675" y="13604"/>
                  </a:lnTo>
                  <a:lnTo>
                    <a:pt x="675" y="7996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3"/>
            <p:cNvSpPr/>
            <p:nvPr/>
          </p:nvSpPr>
          <p:spPr>
            <a:xfrm rot="8094000">
              <a:off x="3663000" y="4184280"/>
              <a:ext cx="1893960" cy="687240"/>
            </a:xfrm>
            <a:custGeom>
              <a:avLst/>
              <a:gdLst>
                <a:gd name="textAreaLeft" fmla="*/ 295920 w 1893960"/>
                <a:gd name="textAreaRight" fmla="*/ 1787040 w 1893960"/>
                <a:gd name="textAreaTop" fmla="*/ 254520 h 687240"/>
                <a:gd name="textAreaBottom" fmla="*/ 432720 h 68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899" y="0"/>
                  </a:moveTo>
                  <a:lnTo>
                    <a:pt x="16899" y="7996"/>
                  </a:lnTo>
                  <a:lnTo>
                    <a:pt x="3375" y="7996"/>
                  </a:lnTo>
                  <a:lnTo>
                    <a:pt x="3375" y="13604"/>
                  </a:lnTo>
                  <a:lnTo>
                    <a:pt x="16899" y="13604"/>
                  </a:lnTo>
                  <a:lnTo>
                    <a:pt x="16899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7996"/>
                  </a:moveTo>
                  <a:lnTo>
                    <a:pt x="1350" y="13604"/>
                  </a:lnTo>
                  <a:lnTo>
                    <a:pt x="2700" y="13604"/>
                  </a:lnTo>
                  <a:lnTo>
                    <a:pt x="2700" y="7996"/>
                  </a:lnTo>
                  <a:close/>
                </a:path>
                <a:path w="21600" h="21600">
                  <a:moveTo>
                    <a:pt x="0" y="7996"/>
                  </a:moveTo>
                  <a:lnTo>
                    <a:pt x="0" y="13604"/>
                  </a:lnTo>
                  <a:lnTo>
                    <a:pt x="675" y="13604"/>
                  </a:lnTo>
                  <a:lnTo>
                    <a:pt x="675" y="79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4"/>
            <p:cNvSpPr/>
            <p:nvPr/>
          </p:nvSpPr>
          <p:spPr>
            <a:xfrm>
              <a:off x="1369800" y="4343400"/>
              <a:ext cx="1541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ossmatch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si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5"/>
            <p:cNvSpPr/>
            <p:nvPr/>
          </p:nvSpPr>
          <p:spPr>
            <a:xfrm>
              <a:off x="2999160" y="4419360"/>
              <a:ext cx="533160" cy="533160"/>
            </a:xfrm>
            <a:custGeom>
              <a:avLst/>
              <a:gdLst>
                <a:gd name="textAreaLeft" fmla="*/ 78120 w 533160"/>
                <a:gd name="textAreaRight" fmla="*/ 455040 w 533160"/>
                <a:gd name="textAreaTop" fmla="*/ 78120 h 533160"/>
                <a:gd name="textAreaBottom" fmla="*/ 4550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401" y="15493"/>
                  </a:moveTo>
                  <a:cubicBezTo>
                    <a:pt x="18376" y="14122"/>
                    <a:pt x="18900" y="12482"/>
                    <a:pt x="18900" y="10800"/>
                  </a:cubicBezTo>
                  <a:cubicBezTo>
                    <a:pt x="18900" y="6326"/>
                    <a:pt x="15273" y="2700"/>
                    <a:pt x="10800" y="2700"/>
                  </a:cubicBezTo>
                  <a:cubicBezTo>
                    <a:pt x="9117" y="2699"/>
                    <a:pt x="7477" y="3223"/>
                    <a:pt x="6106" y="4198"/>
                  </a:cubicBezTo>
                  <a:close/>
                  <a:moveTo>
                    <a:pt x="4198" y="6106"/>
                  </a:moveTo>
                  <a:cubicBezTo>
                    <a:pt x="3223" y="7477"/>
                    <a:pt x="2700" y="9117"/>
                    <a:pt x="2700" y="10799"/>
                  </a:cubicBezTo>
                  <a:cubicBezTo>
                    <a:pt x="2700" y="15273"/>
                    <a:pt x="6326" y="18900"/>
                    <a:pt x="10800" y="18900"/>
                  </a:cubicBezTo>
                  <a:cubicBezTo>
                    <a:pt x="12482" y="18900"/>
                    <a:pt x="14122" y="18376"/>
                    <a:pt x="15493" y="1740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16"/>
            <p:cNvSpPr/>
            <p:nvPr/>
          </p:nvSpPr>
          <p:spPr>
            <a:xfrm>
              <a:off x="5715000" y="4419360"/>
              <a:ext cx="533160" cy="533160"/>
            </a:xfrm>
            <a:custGeom>
              <a:avLst/>
              <a:gdLst>
                <a:gd name="textAreaLeft" fmla="*/ 78120 w 533160"/>
                <a:gd name="textAreaRight" fmla="*/ 455040 w 533160"/>
                <a:gd name="textAreaTop" fmla="*/ 78120 h 533160"/>
                <a:gd name="textAreaBottom" fmla="*/ 4550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401" y="15493"/>
                  </a:moveTo>
                  <a:cubicBezTo>
                    <a:pt x="18376" y="14122"/>
                    <a:pt x="18900" y="12482"/>
                    <a:pt x="18900" y="10800"/>
                  </a:cubicBezTo>
                  <a:cubicBezTo>
                    <a:pt x="18900" y="6326"/>
                    <a:pt x="15273" y="2700"/>
                    <a:pt x="10800" y="2700"/>
                  </a:cubicBezTo>
                  <a:cubicBezTo>
                    <a:pt x="9117" y="2699"/>
                    <a:pt x="7477" y="3223"/>
                    <a:pt x="6106" y="4198"/>
                  </a:cubicBezTo>
                  <a:close/>
                  <a:moveTo>
                    <a:pt x="4198" y="6106"/>
                  </a:moveTo>
                  <a:cubicBezTo>
                    <a:pt x="3223" y="7477"/>
                    <a:pt x="2700" y="9117"/>
                    <a:pt x="2700" y="10799"/>
                  </a:cubicBezTo>
                  <a:cubicBezTo>
                    <a:pt x="2700" y="15273"/>
                    <a:pt x="6326" y="18900"/>
                    <a:pt x="10800" y="18900"/>
                  </a:cubicBezTo>
                  <a:cubicBezTo>
                    <a:pt x="12482" y="18900"/>
                    <a:pt x="14122" y="18376"/>
                    <a:pt x="15493" y="1740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7:46:37Z</dcterms:created>
  <dc:creator>Ajay Israni</dc:creator>
  <dc:description/>
  <dc:language>en-US</dc:language>
  <cp:lastModifiedBy>sakkina</cp:lastModifiedBy>
  <dcterms:modified xsi:type="dcterms:W3CDTF">2010-06-05T15:00:47Z</dcterms:modified>
  <cp:revision>32</cp:revision>
  <dc:subject/>
  <dc:title>Another Option: Living Donor  Exchange Program</dc:title>
</cp:coreProperties>
</file>