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B0ED-3AD8-4EA3-B1E2-0DFEE365E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9A01-6CE3-45D5-9E77-0397FFE8A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igure 2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Non-directed donor can start a chain or domino of transplants for incompatible pairs. For logistical reasons, all transplants in a chain, need not occur at the same time. The chain may continue endlessly until an incompatible donor decides not to donate and breaks a chain. The chain may be intentionally broken by donating to a patient on the deceased donor waiting list. When creating these chains, it is ideal not to stop a chain at an AB blood type, incompatible donor since that donor’s kidney may only be accepted by a AB blood type recipient. Such a recipient with an incompatible donor is rare to find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648-6E8A-4B9A-B83E-662006EA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6AB3-F079-4866-88C1-85D809CF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02D-EF52-4270-BBB4-E0E0C27E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3513-B3FD-46B4-BF63-530E03B0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A51A-6E57-4DAF-8D3B-6AE52059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EF9F-0F19-48F2-A3F2-F8256EB8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9314-F12E-498E-8245-66FE80AD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EFAF-B918-4E03-87D0-7026954F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196F-DD70-46C8-8C2F-0F984909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699A-B6EA-46EC-9FDA-57316946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CBCF-9C58-43E2-89C4-F161536F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BCE-D6D0-4CA0-9483-66D0455F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66A3-917A-4F15-8601-1839FBF6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4134-06C9-472B-AE0C-27C419F2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9D89-DAC2-48C5-A233-E1C03DF3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A44F-C06A-481C-8127-297615E5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433F-C84C-4F73-8380-C8E45499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391-8455-4520-9C74-39728C08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B66-8D89-4DBF-BF83-23C11ED5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329-9F9B-488E-B2D1-9DD54A61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80B-8AE9-42CC-A032-056E9414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24F-E3C2-4048-8A45-EE737D82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240-A702-4721-B076-CAC7D526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5A99-5E33-45D7-8148-E649DB87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3CED-15FB-410F-985F-F3E0E9E57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C1B5-96F8-4A36-897C-E3A6966A1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2"/>
          <p:cNvGrpSpPr/>
          <p:nvPr/>
        </p:nvGrpSpPr>
        <p:grpSpPr>
          <a:xfrm>
            <a:off x="76320" y="2666880"/>
            <a:ext cx="8832600" cy="3575160"/>
            <a:chOff x="76320" y="2666880"/>
            <a:chExt cx="8832600" cy="3575160"/>
          </a:xfrm>
        </p:grpSpPr>
        <p:sp>
          <p:nvSpPr>
            <p:cNvPr id="90" name="Text Box 3"/>
            <p:cNvSpPr/>
            <p:nvPr/>
          </p:nvSpPr>
          <p:spPr>
            <a:xfrm>
              <a:off x="5505480" y="5507640"/>
              <a:ext cx="1645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4"/>
            <p:cNvSpPr/>
            <p:nvPr/>
          </p:nvSpPr>
          <p:spPr>
            <a:xfrm>
              <a:off x="2054160" y="5311800"/>
              <a:ext cx="1272960" cy="55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Recipi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3962520" y="5311800"/>
              <a:ext cx="1201680" cy="554400"/>
            </a:xfrm>
            <a:prstGeom prst="rect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Recipi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6"/>
            <p:cNvCxnSpPr>
              <a:stCxn id="94" idx="4"/>
              <a:endCxn id="91" idx="0"/>
            </p:cNvCxnSpPr>
            <p:nvPr/>
          </p:nvCxnSpPr>
          <p:spPr>
            <a:xfrm>
              <a:off x="2690640" y="3954240"/>
              <a:ext cx="360" cy="13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" name="AutoShape 7"/>
            <p:cNvCxnSpPr>
              <a:stCxn id="96" idx="4"/>
              <a:endCxn id="92" idx="0"/>
            </p:cNvCxnSpPr>
            <p:nvPr/>
          </p:nvCxnSpPr>
          <p:spPr>
            <a:xfrm>
              <a:off x="4563360" y="3954240"/>
              <a:ext cx="360" cy="13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" name="Oval 8"/>
            <p:cNvSpPr/>
            <p:nvPr/>
          </p:nvSpPr>
          <p:spPr>
            <a:xfrm>
              <a:off x="2054160" y="2666880"/>
              <a:ext cx="1272960" cy="128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Donor for Recipient 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"/>
            <p:cNvSpPr/>
            <p:nvPr/>
          </p:nvSpPr>
          <p:spPr>
            <a:xfrm>
              <a:off x="3962520" y="2666880"/>
              <a:ext cx="1201680" cy="128736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Donor for Recipient 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0"/>
            <p:cNvSpPr/>
            <p:nvPr/>
          </p:nvSpPr>
          <p:spPr>
            <a:xfrm rot="3431400">
              <a:off x="4690440" y="4379760"/>
              <a:ext cx="1463760" cy="523800"/>
            </a:xfrm>
            <a:custGeom>
              <a:avLst/>
              <a:gdLst>
                <a:gd name="textAreaLeft" fmla="*/ 228600 w 1463760"/>
                <a:gd name="textAreaRight" fmla="*/ 1381320 w 1463760"/>
                <a:gd name="textAreaTop" fmla="*/ 193680 h 523800"/>
                <a:gd name="textAreaBottom" fmla="*/ 33012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899" y="0"/>
                  </a:moveTo>
                  <a:lnTo>
                    <a:pt x="16899" y="7996"/>
                  </a:lnTo>
                  <a:lnTo>
                    <a:pt x="3375" y="7996"/>
                  </a:lnTo>
                  <a:lnTo>
                    <a:pt x="3375" y="13604"/>
                  </a:lnTo>
                  <a:lnTo>
                    <a:pt x="16899" y="13604"/>
                  </a:lnTo>
                  <a:lnTo>
                    <a:pt x="16899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7996"/>
                  </a:moveTo>
                  <a:lnTo>
                    <a:pt x="1350" y="13604"/>
                  </a:lnTo>
                  <a:lnTo>
                    <a:pt x="2700" y="13604"/>
                  </a:lnTo>
                  <a:lnTo>
                    <a:pt x="2700" y="7996"/>
                  </a:lnTo>
                  <a:close/>
                </a:path>
                <a:path w="21600" h="21600">
                  <a:moveTo>
                    <a:pt x="0" y="7996"/>
                  </a:moveTo>
                  <a:lnTo>
                    <a:pt x="0" y="13604"/>
                  </a:lnTo>
                  <a:lnTo>
                    <a:pt x="675" y="13604"/>
                  </a:lnTo>
                  <a:lnTo>
                    <a:pt x="675" y="7996"/>
                  </a:lnTo>
                  <a:close/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1"/>
            <p:cNvSpPr/>
            <p:nvPr/>
          </p:nvSpPr>
          <p:spPr>
            <a:xfrm>
              <a:off x="1298880" y="4311720"/>
              <a:ext cx="114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rossmatch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si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76320" y="4883040"/>
              <a:ext cx="1201680" cy="135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Altruistic Don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3"/>
            <p:cNvSpPr/>
            <p:nvPr/>
          </p:nvSpPr>
          <p:spPr>
            <a:xfrm>
              <a:off x="1418760" y="5455440"/>
              <a:ext cx="565200" cy="285840"/>
            </a:xfrm>
            <a:prstGeom prst="rightArrow">
              <a:avLst>
                <a:gd name="adj1" fmla="val 50000"/>
                <a:gd name="adj2" fmla="val 4943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5870520" y="5311800"/>
              <a:ext cx="1201680" cy="554400"/>
            </a:xfrm>
            <a:prstGeom prst="rect">
              <a:avLst/>
            </a:prstGeom>
            <a:solidFill>
              <a:srgbClr val="fcf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Recipi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5"/>
            <p:cNvSpPr/>
            <p:nvPr/>
          </p:nvSpPr>
          <p:spPr>
            <a:xfrm>
              <a:off x="5799240" y="2666880"/>
              <a:ext cx="1272960" cy="1287360"/>
            </a:xfrm>
            <a:prstGeom prst="ellipse">
              <a:avLst/>
            </a:prstGeom>
            <a:solidFill>
              <a:srgbClr val="fcf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Donor for Recipient 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AutoShape 16"/>
            <p:cNvCxnSpPr>
              <a:stCxn id="102" idx="4"/>
              <a:endCxn id="101" idx="0"/>
            </p:cNvCxnSpPr>
            <p:nvPr/>
          </p:nvCxnSpPr>
          <p:spPr>
            <a:xfrm>
              <a:off x="6435720" y="3954240"/>
              <a:ext cx="36000" cy="13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4" name="AutoShape 18"/>
            <p:cNvSpPr/>
            <p:nvPr/>
          </p:nvSpPr>
          <p:spPr>
            <a:xfrm>
              <a:off x="2478600" y="4311360"/>
              <a:ext cx="494640" cy="500400"/>
            </a:xfrm>
            <a:custGeom>
              <a:avLst/>
              <a:gdLst>
                <a:gd name="textAreaLeft" fmla="*/ 72360 w 494640"/>
                <a:gd name="textAreaRight" fmla="*/ 422280 w 494640"/>
                <a:gd name="textAreaTop" fmla="*/ 73080 h 500400"/>
                <a:gd name="textAreaBottom" fmla="*/ 427320 h 5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9"/>
            <p:cNvSpPr/>
            <p:nvPr/>
          </p:nvSpPr>
          <p:spPr>
            <a:xfrm>
              <a:off x="4316040" y="4311360"/>
              <a:ext cx="494640" cy="500400"/>
            </a:xfrm>
            <a:custGeom>
              <a:avLst/>
              <a:gdLst>
                <a:gd name="textAreaLeft" fmla="*/ 72360 w 494640"/>
                <a:gd name="textAreaRight" fmla="*/ 422280 w 494640"/>
                <a:gd name="textAreaTop" fmla="*/ 73080 h 500400"/>
                <a:gd name="textAreaBottom" fmla="*/ 427320 h 5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0"/>
            <p:cNvSpPr/>
            <p:nvPr/>
          </p:nvSpPr>
          <p:spPr>
            <a:xfrm>
              <a:off x="6224040" y="4311360"/>
              <a:ext cx="494640" cy="500400"/>
            </a:xfrm>
            <a:custGeom>
              <a:avLst/>
              <a:gdLst>
                <a:gd name="textAreaLeft" fmla="*/ 72360 w 494640"/>
                <a:gd name="textAreaRight" fmla="*/ 422280 w 494640"/>
                <a:gd name="textAreaTop" fmla="*/ 73080 h 500400"/>
                <a:gd name="textAreaBottom" fmla="*/ 427320 h 5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0"/>
            <p:cNvSpPr/>
            <p:nvPr/>
          </p:nvSpPr>
          <p:spPr>
            <a:xfrm rot="3431400">
              <a:off x="2782080" y="4379760"/>
              <a:ext cx="1463760" cy="523800"/>
            </a:xfrm>
            <a:custGeom>
              <a:avLst/>
              <a:gdLst>
                <a:gd name="textAreaLeft" fmla="*/ 228600 w 1463760"/>
                <a:gd name="textAreaRight" fmla="*/ 1381320 w 1463760"/>
                <a:gd name="textAreaTop" fmla="*/ 193680 h 523800"/>
                <a:gd name="textAreaBottom" fmla="*/ 33012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899" y="0"/>
                  </a:moveTo>
                  <a:lnTo>
                    <a:pt x="16899" y="7996"/>
                  </a:lnTo>
                  <a:lnTo>
                    <a:pt x="3375" y="7996"/>
                  </a:lnTo>
                  <a:lnTo>
                    <a:pt x="3375" y="13604"/>
                  </a:lnTo>
                  <a:lnTo>
                    <a:pt x="16899" y="13604"/>
                  </a:lnTo>
                  <a:lnTo>
                    <a:pt x="16899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7996"/>
                  </a:moveTo>
                  <a:lnTo>
                    <a:pt x="1350" y="13604"/>
                  </a:lnTo>
                  <a:lnTo>
                    <a:pt x="2700" y="13604"/>
                  </a:lnTo>
                  <a:lnTo>
                    <a:pt x="2700" y="7996"/>
                  </a:lnTo>
                  <a:close/>
                </a:path>
                <a:path w="21600" h="21600">
                  <a:moveTo>
                    <a:pt x="0" y="7996"/>
                  </a:moveTo>
                  <a:lnTo>
                    <a:pt x="0" y="13604"/>
                  </a:lnTo>
                  <a:lnTo>
                    <a:pt x="675" y="13604"/>
                  </a:lnTo>
                  <a:lnTo>
                    <a:pt x="675" y="79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 rot="3431400">
              <a:off x="6527160" y="4379760"/>
              <a:ext cx="1463760" cy="523800"/>
            </a:xfrm>
            <a:custGeom>
              <a:avLst/>
              <a:gdLst>
                <a:gd name="textAreaLeft" fmla="*/ 228600 w 1463760"/>
                <a:gd name="textAreaRight" fmla="*/ 1381320 w 1463760"/>
                <a:gd name="textAreaTop" fmla="*/ 193680 h 523800"/>
                <a:gd name="textAreaBottom" fmla="*/ 33012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899" y="0"/>
                  </a:moveTo>
                  <a:lnTo>
                    <a:pt x="16899" y="7996"/>
                  </a:lnTo>
                  <a:lnTo>
                    <a:pt x="3375" y="7996"/>
                  </a:lnTo>
                  <a:lnTo>
                    <a:pt x="3375" y="13604"/>
                  </a:lnTo>
                  <a:lnTo>
                    <a:pt x="16899" y="13604"/>
                  </a:lnTo>
                  <a:lnTo>
                    <a:pt x="16899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7996"/>
                  </a:moveTo>
                  <a:lnTo>
                    <a:pt x="1350" y="13604"/>
                  </a:lnTo>
                  <a:lnTo>
                    <a:pt x="2700" y="13604"/>
                  </a:lnTo>
                  <a:lnTo>
                    <a:pt x="2700" y="7996"/>
                  </a:lnTo>
                  <a:close/>
                </a:path>
                <a:path w="21600" h="21600">
                  <a:moveTo>
                    <a:pt x="0" y="7996"/>
                  </a:moveTo>
                  <a:lnTo>
                    <a:pt x="0" y="13604"/>
                  </a:lnTo>
                  <a:lnTo>
                    <a:pt x="675" y="13604"/>
                  </a:lnTo>
                  <a:lnTo>
                    <a:pt x="675" y="7996"/>
                  </a:lnTo>
                  <a:close/>
                </a:path>
              </a:pathLst>
            </a:custGeom>
            <a:solidFill>
              <a:srgbClr val="fcf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7707240" y="5311800"/>
              <a:ext cx="1201680" cy="554400"/>
            </a:xfrm>
            <a:prstGeom prst="rect">
              <a:avLst/>
            </a:prstGeom>
            <a:solidFill>
              <a:srgbClr val="26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Wait List 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Recipient 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14:31:51Z</dcterms:created>
  <dc:creator>sakkina</dc:creator>
  <dc:description/>
  <dc:language>en-US</dc:language>
  <cp:lastModifiedBy>sakkina</cp:lastModifiedBy>
  <dcterms:modified xsi:type="dcterms:W3CDTF">2010-06-05T15:12:20Z</dcterms:modified>
  <cp:revision>2</cp:revision>
  <dc:subject/>
  <dc:title>Slide 1</dc:title>
</cp:coreProperties>
</file>