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ssociation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APK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expression and risk of precapillary pulmonary hypertension with single nucleotide polymorphism (SNP) rs10857560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Relative expression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APK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plotted against rs10857560 genotype in the combined Howard University and University of Chicago (UC) cohort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Precapillary pulmonary hypertension (precap. PH) and nonprecapillary pulmonary (non precap. PH) cases plotted against rs10857560 genotype in the combined University of Illinois at Chicago (UIC; black points) and Walk–Treatment of Pulmonary Hypertension and Sickle Cell Disease with Sildenafil Therapy (Walk-PHaSST; grey points) cohort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The log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10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value of expression association plotted against chromosome position for SNPs located with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APK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and its ≈500-Kb region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The combined log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10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value of precapillary pulmonary hypertension association of the UIC and Walk-PHaSST cohorts plotted against chromosome position for SNPs with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APK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and its ≈500-Kb regions. In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and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the position of rs10857560 is labeled by a grey vertical line, and the region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APK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is highlighted gr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ociation of MAPK8 expression and risk of precapillary pulmonary hypertension with single nucleotide polymorphism (SNP) rs1085756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27240" y="1079640"/>
            <a:ext cx="4030920" cy="539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2724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Zhang X et al. Circulation. 2014;129:1650-16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