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Hypoxic transcriptional response in patients with sickle cell disease (SCD) who were diagnosed with precapillary pulmonary hypertension. The slope of the log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fold change estimated by reverse transcription-quantitative PCR (RT-qPCR) against the log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fold change estimated by microarray is 2.4, suggesting that fold change estimated by microarray could be conservative compared with RT-qPCR. Alternatively, hypoxic transcription could be further elevated in precapillary pulmonary hypertension pat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ypoxic transcriptional response in patients with sickle cell disease (SCD) who were diagnosed with precapillary pulmonary hypertens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55760" y="1079640"/>
            <a:ext cx="557532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557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Zhang X et al. Circulation. 2014;129:1650-16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