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ltered gene expression profiles in patients with hemoglobin SS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HL</a:t>
            </a:r>
            <a:r>
              <a:rPr b="0" i="1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R200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homozygotes were highly correlated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Q-Q plot of d-scores from real data against d-scores from 100 permutations for comparison betwe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HL</a:t>
            </a:r>
            <a:r>
              <a:rPr b="0" i="1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R200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H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wild-type (grey) and between hemoglobin SS and hemoglobin AA (black). The dashed lines represented thresholds at 5% false discovery rate (FDR). A large number of genes showed modest upregulation in the disease subjects, as indicated by the overall upshift of d-scores relative to the null distribution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orrelation of differential expression (regression coefficients of genes) in hemoglobin SS and homozygou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HL</a:t>
            </a:r>
            <a:r>
              <a:rPr b="0" i="1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R200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orrelation of differential expression in hemoglobin SS and Down syndrome. In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Spearman ρ is pres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tered gene expression profiles in patients with hemoglobin SS and VHLR200W homozygotes were highly correlat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94000" y="1079640"/>
            <a:ext cx="529596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94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ang X et al. Circulation. 2014;129:1650-16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