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CF7-7E5D-4E57-895B-91D08904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2A3-B7E2-4233-82B4-B54E4D4B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ACF-882F-474C-B2B0-9B166928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C11-CBA2-403B-B654-E9127E3B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4B1-EBCA-484C-8CEE-D13C6023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47F-FB60-40EC-8442-3DE5D866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12C-D3A6-4FEA-A8FB-B27A1785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A18-E361-4163-B5F3-29625D52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785-5C3A-4499-ADE7-2D590E2B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AFA-1DF8-4464-870D-25A87D98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47A-C76A-4332-91AA-09DA95B8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3EB-ADFF-48BA-B26D-5AAAC192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BC4-5D74-4137-AD4F-10502A5B6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"/>
          <p:cNvGraphicFramePr/>
          <p:nvPr/>
        </p:nvGraphicFramePr>
        <p:xfrm>
          <a:off x="1371600" y="3200400"/>
          <a:ext cx="503712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200400"/>
                    <a:ext cx="503712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523880" y="3336840"/>
          <a:ext cx="6096240" cy="1843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43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Object 2"/>
          <p:cNvGraphicFramePr/>
          <p:nvPr/>
        </p:nvGraphicFramePr>
        <p:xfrm>
          <a:off x="1600200" y="152280"/>
          <a:ext cx="4876920" cy="328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52280"/>
                    <a:ext cx="487692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8:19:59Z</dcterms:created>
  <dc:creator> Jim</dc:creator>
  <dc:description/>
  <dc:language>en-US</dc:language>
  <cp:lastModifiedBy> Jim</cp:lastModifiedBy>
  <dcterms:modified xsi:type="dcterms:W3CDTF">2011-11-12T02:08:50Z</dcterms:modified>
  <cp:revision>2</cp:revision>
  <dc:subject/>
  <dc:title>Slide 1</dc:title>
</cp:coreProperties>
</file>