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686-7532-4171-97DD-D3735D98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33A-9286-4F5A-A6D3-CF8A00D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0AD-1891-447D-8EDA-436B679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8C3-CB68-4822-BE51-295C88B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D9F-5C52-4D35-84DF-3E6D3D4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E42-18F0-4CFA-B1CF-BF326BA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4F7-6370-47C7-8EBB-90AB916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BD5-AC2A-40EC-99E3-FC8DECEB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4AC-B51E-4FCB-913E-0523E4B6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267-B979-4557-A280-79C9E2E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392-6718-478B-B12B-29837C2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C62-DE63-46F5-B7A5-363CBA9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ADD-AED9-42B1-A09A-7CCB8A5DB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838080" y="577800"/>
            <a:ext cx="7272360" cy="55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451760" y="7621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2:17:57Z</dcterms:created>
  <dc:creator> Jim</dc:creator>
  <dc:description/>
  <dc:language>en-US</dc:language>
  <cp:lastModifiedBy> Jim</cp:lastModifiedBy>
  <dcterms:modified xsi:type="dcterms:W3CDTF">2011-11-12T02:20:42Z</dcterms:modified>
  <cp:revision>1</cp:revision>
  <dc:subject/>
  <dc:title>Slide 1</dc:title>
</cp:coreProperties>
</file>