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92E-E224-4EAE-BC96-7965DFAD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221-9F23-4790-A266-702638C7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8E0-B011-4806-A472-F8FDC56F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E9B-AC8D-41F7-AF4F-ECE30251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3FE-10B9-4373-AD25-60C8200F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92C-F565-4BD3-8D57-54F7C61B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DE4-5CAC-4583-A02A-8BDEDFC4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1C0-33C9-413C-9AE1-BFA47E88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2C5-9BDF-4A51-8CE3-27940D53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D9B-5834-41E2-8C1E-01B4BB42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C5B-A916-48F8-9B83-B31FB064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CDB-4390-4B4B-9EA2-ADB192DE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B31E-BD89-4A65-B7C4-C93F2FBC5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3336840"/>
          <a:ext cx="6096240" cy="1843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843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523880" y="3336840"/>
          <a:ext cx="6096240" cy="1843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843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523880" y="3336840"/>
          <a:ext cx="6096240" cy="1843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843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Object 4"/>
          <p:cNvGraphicFramePr/>
          <p:nvPr/>
        </p:nvGraphicFramePr>
        <p:xfrm>
          <a:off x="4724280" y="533520"/>
          <a:ext cx="36482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533520"/>
                    <a:ext cx="36482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3"/>
          <p:cNvGraphicFramePr/>
          <p:nvPr/>
        </p:nvGraphicFramePr>
        <p:xfrm>
          <a:off x="304920" y="609480"/>
          <a:ext cx="364788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609480"/>
                    <a:ext cx="36478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2"/>
          <p:cNvGraphicFramePr/>
          <p:nvPr/>
        </p:nvGraphicFramePr>
        <p:xfrm>
          <a:off x="4800600" y="3581280"/>
          <a:ext cx="3505320" cy="26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581280"/>
                    <a:ext cx="350532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"/>
          <p:cNvGraphicFramePr/>
          <p:nvPr/>
        </p:nvGraphicFramePr>
        <p:xfrm>
          <a:off x="304920" y="3581280"/>
          <a:ext cx="3647880" cy="266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581280"/>
                    <a:ext cx="36478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38016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3476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2:23:15Z</dcterms:created>
  <dc:creator> Jim</dc:creator>
  <dc:description/>
  <dc:language>en-US</dc:language>
  <cp:lastModifiedBy> Jim</cp:lastModifiedBy>
  <dcterms:modified xsi:type="dcterms:W3CDTF">2011-11-12T02:07:56Z</dcterms:modified>
  <cp:revision>1</cp:revision>
  <dc:subject/>
  <dc:title>Slide 1</dc:title>
</cp:coreProperties>
</file>