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3FB-7E55-4223-9127-1480E6C3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346-C369-4B9A-B60A-398150E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945-8637-4C7A-91B8-FDB98F4B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4ED-C0DF-4709-9C73-56AB91B0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76-EBF4-42EF-A681-84705BF2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702-B5F7-4A21-AE21-C04C4F8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5C2-96E2-4D9F-8EC1-A262499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C84-7A2C-4E48-BE9D-F988E3D3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583-1CDC-4F8D-95F8-AD40501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184-D804-4A81-90D0-3D45B6E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1CB-685D-4A15-AD59-2290E94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5FD-0B0B-4C68-9C1D-79BACAE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BD9-6EE9-4F60-AC1F-89FD8F639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7740" t="18293" r="16981" b="28049"/>
          <a:stretch/>
        </p:blipFill>
        <p:spPr>
          <a:xfrm>
            <a:off x="3276720" y="1981080"/>
            <a:ext cx="2962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4:01:36Z</dcterms:modified>
  <cp:revision>9</cp:revision>
  <dc:subject/>
  <dc:title>PowerPoint Presentation</dc:title>
</cp:coreProperties>
</file>