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2D7-113B-4941-8C36-BE32309C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83D-6FB3-4301-B262-700609A1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714-C72D-470E-AE78-3B2F7739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53B-5487-4B87-AC1D-5F6A85D2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F9C-5E3F-4615-82A3-C788B4AB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F95-D8DF-447F-BFEA-9B034EA0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54C-C15E-47E9-898D-2DFF7FB9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20A-86EE-4499-9626-461872C6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201-1602-48F3-8D77-4B88FB55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63B6-CF34-43A0-86A4-2CBF7F3C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4B37-A76F-4622-8BAE-9EA67004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7FB-5D27-4192-B00F-D077C857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17DC-A6D9-44E6-8394-EFF2499BF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6604" t="30488" r="37740" b="12195"/>
          <a:stretch/>
        </p:blipFill>
        <p:spPr>
          <a:xfrm>
            <a:off x="3048120" y="2133720"/>
            <a:ext cx="29620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soft</cp:lastModifiedBy>
  <dcterms:modified xsi:type="dcterms:W3CDTF">2010-06-07T04:01:04Z</dcterms:modified>
  <cp:revision>9</cp:revision>
  <dc:subject/>
  <dc:title>PowerPoint Presentation</dc:title>
</cp:coreProperties>
</file>