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796-F743-4C15-A4BD-53FB25E6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D32-A604-4453-A4F5-16CCBD8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2E4-15DF-402C-B920-022B0F53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94D-1FBE-4BB2-AAE1-5210C38D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DAA-E74A-486C-A9E9-6FFBD9B1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01F-9897-4024-80E2-185E800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D50-1D32-4DD5-9016-288DE058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C3A-F357-4027-9D20-4D925C08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3BC-1DB9-469D-9861-BEDF2C3A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1CC-684C-470F-8DD4-A18E494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862-5426-4E9D-A3DA-47E87C9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1DE-78D0-44EA-A858-0BFDC0E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98CD-DF19-4F14-8F6E-C4E349DAD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604" t="22132" r="42453" b="27050"/>
          <a:stretch/>
        </p:blipFill>
        <p:spPr>
          <a:xfrm>
            <a:off x="3200400" y="1981080"/>
            <a:ext cx="2962440" cy="2273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soft</cp:lastModifiedBy>
  <dcterms:modified xsi:type="dcterms:W3CDTF">2010-06-07T04:02:05Z</dcterms:modified>
  <cp:revision>9</cp:revision>
  <dc:subject/>
  <dc:title>PowerPoint Presentation</dc:title>
</cp:coreProperties>
</file>