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263-F65F-4E8A-9341-BAFEAA83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CBB-B458-47BB-8E24-2E2C8971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0D6-942F-4F64-AA4F-F7B19602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375-1E8A-4BCB-8B6C-634E7222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80B-D247-46F2-8E26-CFB221D8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8E7-4D5A-45AB-BCC8-8A850793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292-6428-4428-AE6D-3438F7FE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7F6-141C-4C7A-9DD8-3FE5D15E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541-F57F-4420-BA71-6D2C32A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74A-41DF-4A9E-BF06-1223D82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A14-7C5D-4390-9D19-FDB0F080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580-DCB9-480E-99EE-F9047536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47C8-C586-4FE1-8A84-E736EA0F4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2264" t="21951" r="34906" b="15854"/>
          <a:stretch/>
        </p:blipFill>
        <p:spPr>
          <a:xfrm>
            <a:off x="3124080" y="1905120"/>
            <a:ext cx="2962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soft</cp:lastModifiedBy>
  <dcterms:modified xsi:type="dcterms:W3CDTF">2010-06-07T03:59:36Z</dcterms:modified>
  <cp:revision>9</cp:revision>
  <dc:subject/>
  <dc:title>PowerPoint Presentation</dc:title>
</cp:coreProperties>
</file>