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F0E3-6F4C-4214-94BC-C137D31D1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872D-7CB0-4BC4-9378-7409D5402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1D8A-D29F-4389-A780-22D5AA5B5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5B8B-36CF-497D-A27E-2C881AA73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F9FC-4C0B-4A43-8FBA-C1CAE29F0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9D12-CDE4-495D-A726-7A5D1E1E4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07E3-1ADB-431A-9E28-62F56AA51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54A9-EE83-41E7-8A20-70B9D5C67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A897-CDBE-4844-8E8F-31F0FCF79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B9E4-72B1-4B2C-9407-9A0B5B0B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5EB6-4A5A-4D56-B490-DE17AB37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E4A2-D1E7-40FF-B0AA-5222BCA23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1E891-8177-45F7-BDF8-FC721E36F8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gure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11321" t="25610" r="42453" b="15854"/>
          <a:stretch/>
        </p:blipFill>
        <p:spPr>
          <a:xfrm>
            <a:off x="2971800" y="2133720"/>
            <a:ext cx="2962440" cy="29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ansoft</cp:lastModifiedBy>
  <dcterms:modified xsi:type="dcterms:W3CDTF">2010-06-07T04:00:40Z</dcterms:modified>
  <cp:revision>9</cp:revision>
  <dc:subject/>
  <dc:title>PowerPoint Presentation</dc:title>
</cp:coreProperties>
</file>