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E49-0CFA-4698-81C3-9752FFE9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951D-0E3C-48B1-9F56-67D71310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37A-81C1-4810-A8F0-95E46269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0AB-4B34-433A-8562-72C4BCF0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9FF-9457-4C87-B72A-FE43B9A6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D47-490D-41F7-9504-0405FBFE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6A75-EF0D-431A-A19B-42E2BABB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FCD8-85EE-407E-97E2-F79A268E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523-8EC7-4EF9-A53B-FD35A12F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077-69F4-428E-A5F5-0236A9B9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5FB-E815-4C9C-82F1-CFB01C87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879-E437-431D-8987-B680B45F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F2E2-3BC1-47F1-A3A0-55131E716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6981" t="20732" r="16981" b="20732"/>
          <a:stretch/>
        </p:blipFill>
        <p:spPr>
          <a:xfrm>
            <a:off x="3048120" y="2133720"/>
            <a:ext cx="29620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soft</cp:lastModifiedBy>
  <dcterms:modified xsi:type="dcterms:W3CDTF">2010-06-07T04:01:54Z</dcterms:modified>
  <cp:revision>9</cp:revision>
  <dc:subject/>
  <dc:title>PowerPoint Presentation</dc:title>
</cp:coreProperties>
</file>