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2918400" cy="32918400"/>
  <p:notesSz cx="31856363" cy="3209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1AE-B2A8-4688-9C2C-2BDD40DC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2962764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9023480"/>
            <a:ext cx="2962764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A5C-BF2F-412E-A16F-8E19A15B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71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90234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7120" y="190234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60A-620E-4112-A105-B864D8F7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3280" y="76798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80640" y="76798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90234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3280" y="190234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80640" y="19023480"/>
            <a:ext cx="954000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5F5-C9AA-49A2-8F8E-1977589F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7679880"/>
            <a:ext cx="29627640" cy="217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381-9D7A-4C3A-8744-E73C7DB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2962764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651-0311-4334-A07E-189965FA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1445796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7120" y="7679880"/>
            <a:ext cx="1445796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D61-9A9B-4AC4-AC15-608E16D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0EC-6C50-4200-BC95-ABF504E7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1314360"/>
            <a:ext cx="296276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5D0-0E82-49EC-96BF-759A0AEC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7120" y="7679880"/>
            <a:ext cx="1445796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90234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EAA-243A-4E17-B253-BDC2D70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1445796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71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7120" y="190234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828-9895-4951-8065-AB6D45E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7120" y="7679880"/>
            <a:ext cx="1445796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9023480"/>
            <a:ext cx="29627640" cy="10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872-D4DA-43DE-B0A1-13D36D5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5920" y="1314360"/>
            <a:ext cx="29627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5920" y="7679880"/>
            <a:ext cx="29627640" cy="217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5920" y="29981520"/>
            <a:ext cx="76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120" y="29981520"/>
            <a:ext cx="10425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520" y="29981520"/>
            <a:ext cx="76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DEF9-1559-4640-B5DD-15CF3ABE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package" Target="../embeddings/oleObject1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7880" y="12801600"/>
            <a:ext cx="11506320" cy="1920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Monet and Hollar: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Irregularity among institutions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n the extensiveness of records created for the same cre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ollar: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More single instances of words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likelier retrieval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More headings used did not lead to greater retriev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Monet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Many single instances of words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led to more retrieval of one record (left) than of other Monet records from other instit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22720" y="14630400"/>
            <a:ext cx="4267080" cy="3962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nzel Hollar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trasburg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Gallery of Ontario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onto,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ft of John Roberts, 199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0" y="14630400"/>
            <a:ext cx="5484960" cy="398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0" y="19659600"/>
            <a:ext cx="54849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422720" y="19658160"/>
            <a:ext cx="4267080" cy="567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nceslaus Hollar</a:t>
            </a:r>
            <a:br>
              <a:rPr sz="4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ust of Woman with Lace Collar and Braided Hair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s Museum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al Center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esley College, Wellesley, M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ft of Mrs. Toivo Lamin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rgaret Chamber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of 1929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00" y="26441280"/>
            <a:ext cx="54849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22720" y="26439840"/>
            <a:ext cx="4267080" cy="57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nceslas Hollar</a:t>
            </a:r>
            <a:br>
              <a:rPr sz="44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andscape with two farm houses on a hilltop, Bohemia</a:t>
            </a:r>
            <a:br>
              <a:rPr sz="4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e Arts Museums of San Francisco, San Francisco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enbach Foundation for Graphic Ar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1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7880" y="4572000"/>
            <a:ext cx="11582640" cy="7315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escription variation among institutions:  </a:t>
            </a:r>
            <a:br>
              <a:rPr sz="96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a well-known creator (Monet) and a lesser-known creator (Hollar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630400"/>
            <a:ext cx="426708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aude Monet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orning on the Seine, near Giverny</a:t>
            </a:r>
            <a:br>
              <a:rPr sz="4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eum of Fine Arts, Boston, M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liana Cheney Edwards Coll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14630400"/>
            <a:ext cx="548496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21031200"/>
            <a:ext cx="426708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aude Monet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ailboats on the Seine</a:t>
            </a:r>
            <a:br>
              <a:rPr sz="4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e Arts Museums of San Francisco, San Francisco, C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ft of Bruno and Sadie Adrian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1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572000" y="21031200"/>
            <a:ext cx="548496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27432000"/>
            <a:ext cx="4267080" cy="388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aude Monet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Water Lilies</a:t>
            </a:r>
            <a:br>
              <a:rPr sz="4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eveland Museum of Art, Cleveland, O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1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572000" y="27432000"/>
            <a:ext cx="548496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7880" y="26593920"/>
            <a:ext cx="1150632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96480" y="19202400"/>
            <a:ext cx="11277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06040" y="914400"/>
            <a:ext cx="11506320" cy="192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134720" y="28803600"/>
            <a:ext cx="1676160" cy="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878920" y="24383880"/>
            <a:ext cx="1828800" cy="182880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6477120"/>
          <a:ext cx="9829800" cy="6877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6477120"/>
                    <a:ext cx="98298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2860000" y="6553080"/>
          <a:ext cx="9829800" cy="68770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0" y="6553080"/>
                    <a:ext cx="98298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28600" y="3657600"/>
            <a:ext cx="975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riations in record description among institutions: suggestions of trends (example of well-known creator – Claude Mon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0" y="3886200"/>
            <a:ext cx="982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riations in record description among institutions: suggestions of trends (example of lesser-known creator – Wenzel Holla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620120" y="11201040"/>
            <a:ext cx="4114800" cy="259092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0878920" y="11658240"/>
            <a:ext cx="1904760" cy="205740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38960" y="4495680"/>
            <a:ext cx="20040480" cy="27756000"/>
          </a:xfrm>
          <a:prstGeom prst="rect">
            <a:avLst/>
          </a:prstGeom>
          <a:solidFill>
            <a:srgbClr val="bbe0e3"/>
          </a:solidFill>
          <a:ln w="914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Other search types (chart below)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Provide access points for other, more specific search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xtensive descriptions = fruitful keyword searching: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Use more single instances of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Use more fields to describe imag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fficiency: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Reputation affects amount of descriptio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Set minimal standards but </a:t>
            </a:r>
            <a:br>
              <a:rPr sz="8000"/>
            </a:b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exceed them for the obscu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048440" y="9524880"/>
          <a:ext cx="18821520" cy="990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9524880"/>
                    <a:ext cx="1882152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4859000" y="10210680"/>
            <a:ext cx="1143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MICO database searche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Y 2000-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914400"/>
            <a:ext cx="20951640" cy="3581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Arial"/>
              </a:rPr>
              <a:t>IMPLICATIONS </a:t>
            </a:r>
            <a:br>
              <a:rPr sz="12000"/>
            </a:br>
            <a:r>
              <a:rPr b="1" lang="en-US" sz="12000" spc="-1" strike="noStrike">
                <a:solidFill>
                  <a:srgbClr val="ffffff"/>
                </a:solidFill>
                <a:latin typeface="Arial"/>
              </a:rPr>
              <a:t>and STRATEGI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5484960" cy="32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22640" y="11160"/>
            <a:ext cx="5484600" cy="329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5486400" cy="32907240"/>
          </a:xfrm>
          <a:prstGeom prst="rect">
            <a:avLst/>
          </a:prstGeom>
          <a:noFill/>
          <a:ln w="3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22640" y="0"/>
            <a:ext cx="5486400" cy="32907240"/>
          </a:xfrm>
          <a:prstGeom prst="rect">
            <a:avLst/>
          </a:prstGeom>
          <a:noFill/>
          <a:ln w="3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744200" y="12801600"/>
            <a:ext cx="11430000" cy="1927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Genthe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One creator, one i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Differing numbers of headings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not corresponding to retriev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Genthe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Varying numbers of headings suggests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irregularity in providing access points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o the recor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hree records (right) from one institution:</a:t>
            </a:r>
            <a:br>
              <a:rPr sz="6000"/>
            </a:b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Inclusion of more headings results in greater retriev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0"/>
            <a:ext cx="34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7880" y="4495680"/>
            <a:ext cx="11582640" cy="7391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escription variation within an institution: </a:t>
            </a:r>
            <a:br>
              <a:rPr sz="96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one creator (Genthe) and multiple creators from one i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706040" y="914400"/>
            <a:ext cx="11506320" cy="192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44200" y="19888200"/>
            <a:ext cx="114300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744200" y="26669880"/>
            <a:ext cx="115063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5867280"/>
          <a:ext cx="9753480" cy="693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867280"/>
                    <a:ext cx="975348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860000" y="5943600"/>
          <a:ext cx="9829800" cy="687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0" y="5943600"/>
                    <a:ext cx="98298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80880" y="3657600"/>
            <a:ext cx="967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cord description variation within an institution: a case involving a single creator (Genth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0" y="3657600"/>
            <a:ext cx="9601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cord description variation within an institution: a case involving multiple known and unknown cre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3716000"/>
            <a:ext cx="4190760" cy="601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nold Genthe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rounds and building for the wedding of Rosemary Harden</a:t>
            </a:r>
            <a:br>
              <a:rPr sz="4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tle devised from Genthe's records title,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tween 1928 and 1942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of Congress Prints and Photographs Divisi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, D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72000" y="13716000"/>
            <a:ext cx="5484960" cy="601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20193120"/>
            <a:ext cx="4190760" cy="5790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nold Genthe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rner, Edward, Mrs.</a:t>
            </a:r>
            <a:br>
              <a:rPr sz="4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tle devised from Genthe's records title, 1930 Apr.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of Congress Prints and Photographs Division, Washington, D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572000" y="20193120"/>
            <a:ext cx="5484960" cy="5794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26517600"/>
            <a:ext cx="4190760" cy="541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nold Genthe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ravel views of Japan and Korea</a:t>
            </a:r>
            <a:br>
              <a:rPr sz="4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tle devised from Genthe's records title, 1908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of Congress Prints and Photographs Division, Washington, D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572000" y="26517600"/>
            <a:ext cx="548496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422720" y="13716000"/>
            <a:ext cx="4267080" cy="586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iedrich Preller the Elder</a:t>
            </a: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Serpentara near Olev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eveland Museum of Art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veland, O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a E. Holden F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2860000" y="13716000"/>
            <a:ext cx="5484960" cy="588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346400" y="20421720"/>
            <a:ext cx="43434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èvres Factory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eveland Museum of Art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veland, O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ft of Nicholas J. Vellone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22860000" y="20421720"/>
            <a:ext cx="5408640" cy="4970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346400" y="26365320"/>
            <a:ext cx="4343400" cy="563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enedetto Caliari</a:t>
            </a:r>
            <a:br>
              <a:rPr sz="4800"/>
            </a:br>
            <a:br>
              <a:rPr sz="48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Annunciation</a:t>
            </a:r>
            <a:br>
              <a:rPr sz="4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eveland Museum of Art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veland, O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ft of the Hanna F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CO retrievals:  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22860000" y="2636532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8534160" y="10896480"/>
            <a:ext cx="2895480" cy="426744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02600" y="30784680"/>
            <a:ext cx="1447920" cy="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134720" y="23012280"/>
            <a:ext cx="1828800" cy="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0210680" y="18288000"/>
            <a:ext cx="1981440" cy="190512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0363320" y="24841080"/>
            <a:ext cx="1295280" cy="1295640"/>
          </a:xfrm>
          <a:prstGeom prst="line">
            <a:avLst/>
          </a:prstGeom>
          <a:ln w="30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5:49:30Z</dcterms:created>
  <dc:creator>Peter</dc:creator>
  <dc:description/>
  <dc:language>en-US</dc:language>
  <cp:lastModifiedBy>Peter Hepburn</cp:lastModifiedBy>
  <dcterms:modified xsi:type="dcterms:W3CDTF">2006-12-07T16:01:29Z</dcterms:modified>
  <cp:revision>38</cp:revision>
  <dc:subject/>
  <dc:title>Slide 1</dc:title>
</cp:coreProperties>
</file>