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32918400"/>
  <p:notesSz cx="50144363" cy="3209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4A4-C145-4987-B290-FC322D5A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460821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62120" y="19028520"/>
            <a:ext cx="460821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225-0BF7-4669-B411-5AD87DA7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74520" y="768024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62120" y="1902852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74520" y="1902852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429-50C1-4058-948C-8E91F26B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1483812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142560" y="7680240"/>
            <a:ext cx="1483812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723000" y="7680240"/>
            <a:ext cx="1483812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62120" y="19028520"/>
            <a:ext cx="1483812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142560" y="19028520"/>
            <a:ext cx="1483812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723000" y="19028520"/>
            <a:ext cx="1483812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86D-7FD3-48B6-8784-0D3FF973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62120" y="7680240"/>
            <a:ext cx="46082160" cy="2172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864-48A4-419E-B45A-6C29A54A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46082160" cy="217267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669-9A2B-4B96-9987-70549E9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22487760" cy="217267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74520" y="7680240"/>
            <a:ext cx="22487760" cy="217267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419-A3F6-4622-9A83-3B4F522F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7D1-C7C8-4A3D-BC7C-E753DB9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2120" y="1317600"/>
            <a:ext cx="4608216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629-DD40-4DB3-BE20-EE94F71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74520" y="7680240"/>
            <a:ext cx="22487760" cy="217267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62120" y="1902852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D4B-5DED-45FA-8B5C-2F2B582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22487760" cy="217267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74520" y="768024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74520" y="1902852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BD2-95BF-4862-91DD-7673995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62120" y="768024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74520" y="7680240"/>
            <a:ext cx="224877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62120" y="19028520"/>
            <a:ext cx="46082160" cy="103633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72A-5CC1-47F8-80C5-2C63E579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62120" y="1317600"/>
            <a:ext cx="460821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62120" y="7680240"/>
            <a:ext cx="46082160" cy="217267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1760" y="29978280"/>
            <a:ext cx="1194588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7440" y="29978280"/>
            <a:ext cx="1621296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9480" y="29978280"/>
            <a:ext cx="1194444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6BDA9FF8-EA9B-4F28-81E7-62FCD2FF80B0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760" y="227160"/>
            <a:ext cx="50275800" cy="1005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249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21200" spc="-1" strike="noStrike">
                <a:solidFill>
                  <a:srgbClr val="000000"/>
                </a:solidFill>
                <a:latin typeface="Arial"/>
              </a:rPr>
              <a:t>IMPLICATIONS of MULTI-INSTITUTION COLLABORATION for RETRIEVAL of DIGITIZED IMAGES from a DATABASE</a:t>
            </a: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8680" y="10968120"/>
            <a:ext cx="32907240" cy="21950280"/>
          </a:xfrm>
          <a:prstGeom prst="rect">
            <a:avLst/>
          </a:prstGeom>
          <a:noFill/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23:54:17Z</dcterms:created>
  <dc:creator>cp</dc:creator>
  <dc:description/>
  <dc:language>en-US</dc:language>
  <cp:lastModifiedBy>cp</cp:lastModifiedBy>
  <dcterms:modified xsi:type="dcterms:W3CDTF">2005-04-03T19:05:39Z</dcterms:modified>
  <cp:revision>5</cp:revision>
  <dc:subject/>
  <dc:title>Slide 1</dc:title>
</cp:coreProperties>
</file>